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7.png" ContentType="image/png"/>
  <Override PartName="/ppt/media/image34.png" ContentType="image/png"/>
  <Override PartName="/ppt/media/image40.jpeg" ContentType="image/jpe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C03-9C08-450C-A758-430F15157F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B69-CED7-4C34-9D71-5F58BFBF2D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508-6936-4089-8AA0-F0B2E6DB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D87-A36E-4DE3-891B-3447D947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F9F-9D48-46C4-A443-90FBBAA3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AC9-25C3-40D7-BD0C-D4CA70E1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9C8-7B20-4BAE-86BD-99AD8DC5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CC99-2CB1-48F8-93C9-930EF9E8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34E7-9AB6-40EF-8F36-3ECD9C88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DB3C-7EBA-4171-95B3-9FF884BA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A2E3-9EA3-402D-B6CC-3F2608FC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3D1D-839F-47BE-B8AD-C80ACBE7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1F3C-4B5B-4C46-9AEA-D52A4B9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5BE-55E9-4CB9-804A-ABF1FCEE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CCC0-43DA-4838-816F-A4A2A7C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27DB-8849-4CA6-8BD0-9E7434CB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BAEE-976A-4D35-952F-BF5E731E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5C2A-4D24-455B-925B-118B6D7B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B93C-9B08-4B55-B4E7-4A016A30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98D-2606-448C-A708-6FEA78B3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5F8-936F-4B17-85FE-6698C2DE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ACB-2A23-4FA8-8875-1F111CC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FDB-7DAD-419F-B665-5E7776F5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67E-3746-4AB6-A917-DE26E67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F75-6BC0-4190-88E0-3FCF214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D13-5D84-467B-AAAC-71203C23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9C26-26AF-451C-AD29-162C17EC53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1740-F447-4326-A0E4-41B2D4357A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258920" y="257976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Подорож 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раїнами світ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Італ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212840" y="6114960"/>
            <a:ext cx="338472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ене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4957920" y="6114960"/>
            <a:ext cx="2998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занська в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4957920" y="3560760"/>
            <a:ext cx="2998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олі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212840" y="3560760"/>
            <a:ext cx="338472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лоща Св. П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Достопримечательности Италии - 3"/>
          <p:cNvPicPr/>
          <p:nvPr/>
        </p:nvPicPr>
        <p:blipFill>
          <a:blip r:embed="rId1"/>
          <a:stretch/>
        </p:blipFill>
        <p:spPr>
          <a:xfrm>
            <a:off x="1212840" y="1217520"/>
            <a:ext cx="3384720" cy="2343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rich-tour.com/kartynky/venice.jpg"/>
          <p:cNvPicPr/>
          <p:nvPr/>
        </p:nvPicPr>
        <p:blipFill>
          <a:blip r:embed="rId2"/>
          <a:stretch/>
        </p:blipFill>
        <p:spPr>
          <a:xfrm>
            <a:off x="1212840" y="4068720"/>
            <a:ext cx="3384720" cy="2054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http://info.radynacestu.cz/img/w-800,h-600/2011-12-11/111111221.jpg"/>
          <p:cNvPicPr/>
          <p:nvPr/>
        </p:nvPicPr>
        <p:blipFill>
          <a:blip r:embed="rId3"/>
          <a:stretch/>
        </p:blipFill>
        <p:spPr>
          <a:xfrm>
            <a:off x="4957920" y="4068720"/>
            <a:ext cx="2998800" cy="205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http://www.kultobozrevatel.ru/sites/default/files/images/reviews/architecture/kolizey.jpg"/>
          <p:cNvPicPr/>
          <p:nvPr/>
        </p:nvPicPr>
        <p:blipFill>
          <a:blip r:embed="rId4"/>
          <a:stretch/>
        </p:blipFill>
        <p:spPr>
          <a:xfrm>
            <a:off x="4957920" y="1217520"/>
            <a:ext cx="299880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http://upload.wikimedia.org/wikipedia/commons/thumb/f/fa/Flag_of_the_People%27s_Republic_of_China.svg/900px-Flag_of_the_People%27s_Republic_of_China.svg.png"/>
          <p:cNvPicPr/>
          <p:nvPr/>
        </p:nvPicPr>
        <p:blipFill>
          <a:blip r:embed="rId1"/>
          <a:stretch/>
        </p:blipFill>
        <p:spPr>
          <a:xfrm>
            <a:off x="4967280" y="1893960"/>
            <a:ext cx="2808360" cy="18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ит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4883040" y="4076640"/>
            <a:ext cx="372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тайська Народна Республіка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ава у Східній Азії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я — місто Пекі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upload.wikimedia.org/wikipedia/commons/thumb/7/78/People%27s_Republic_of_China_%28orthographic_projection%29.svg/541px-People%27s_Republic_of_China_%28orthographic_projection%29.svg.png"/>
          <p:cNvPicPr/>
          <p:nvPr/>
        </p:nvPicPr>
        <p:blipFill>
          <a:blip r:embed="rId2"/>
          <a:stretch/>
        </p:blipFill>
        <p:spPr>
          <a:xfrm>
            <a:off x="415800" y="1633680"/>
            <a:ext cx="4170600" cy="41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Кит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826920" y="6005520"/>
            <a:ext cx="36054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Теракотова арм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4854600" y="6005520"/>
            <a:ext cx="3241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боронене мі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826920" y="3417840"/>
            <a:ext cx="36086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еликий Китайський м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lifeglobe.net/media/entry/0/different10-39.jpg"/>
          <p:cNvPicPr/>
          <p:nvPr/>
        </p:nvPicPr>
        <p:blipFill>
          <a:blip r:embed="rId1"/>
          <a:stretch/>
        </p:blipFill>
        <p:spPr>
          <a:xfrm>
            <a:off x="826920" y="1268280"/>
            <a:ext cx="3608640" cy="21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lifeglobe.net/media/entry/0/different8-41.jpg"/>
          <p:cNvPicPr/>
          <p:nvPr/>
        </p:nvPicPr>
        <p:blipFill>
          <a:blip r:embed="rId2"/>
          <a:stretch/>
        </p:blipFill>
        <p:spPr>
          <a:xfrm>
            <a:off x="4854600" y="3933720"/>
            <a:ext cx="3246480" cy="207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lifeglobe.net/media/entry/0/different6-60.jpg"/>
          <p:cNvPicPr/>
          <p:nvPr/>
        </p:nvPicPr>
        <p:blipFill>
          <a:blip r:embed="rId3"/>
          <a:stretch/>
        </p:blipFill>
        <p:spPr>
          <a:xfrm>
            <a:off x="826920" y="3933720"/>
            <a:ext cx="3608640" cy="20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lifeglobe.net/media/entry/0/different4-66.jpg"/>
          <p:cNvPicPr/>
          <p:nvPr/>
        </p:nvPicPr>
        <p:blipFill>
          <a:blip r:embed="rId4"/>
          <a:stretch/>
        </p:blipFill>
        <p:spPr>
          <a:xfrm>
            <a:off x="4854600" y="1263600"/>
            <a:ext cx="3246480" cy="21607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"/>
          <p:cNvSpPr/>
          <p:nvPr/>
        </p:nvSpPr>
        <p:spPr>
          <a:xfrm>
            <a:off x="4854600" y="3417840"/>
            <a:ext cx="3241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ри Хуанш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http://upload.wikimedia.org/wikipedia/commons/thumb/f/fe/Flag_of_Egypt.svg/900px-Flag_of_Egypt.svg.png"/>
          <p:cNvPicPr/>
          <p:nvPr/>
        </p:nvPicPr>
        <p:blipFill>
          <a:blip r:embed="rId1"/>
          <a:stretch/>
        </p:blipFill>
        <p:spPr>
          <a:xfrm>
            <a:off x="4960800" y="1890720"/>
            <a:ext cx="2814840" cy="18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2" name="Picture 2" descr="http://upload.wikimedia.org/wikipedia/commons/thumb/4/4b/Egypt_%28orthographic_projection%29.svg/550px-Egypt_%28orthographic_projection%29.svg.png"/>
          <p:cNvPicPr/>
          <p:nvPr/>
        </p:nvPicPr>
        <p:blipFill>
          <a:blip r:embed="rId2"/>
          <a:stretch/>
        </p:blipFill>
        <p:spPr>
          <a:xfrm>
            <a:off x="415800" y="1633680"/>
            <a:ext cx="4170600" cy="41716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Є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4883040" y="4076640"/>
            <a:ext cx="386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гипет — держа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івнічному сході Африки та Синайському півострові в Азії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я — місто Каї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Є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611280" y="5033880"/>
            <a:ext cx="36050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еликий Сфін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4473720" y="5033880"/>
            <a:ext cx="40590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Єгипетські пірамі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http://www.autotravel.org.ua/images/doc/8/2/823309d-10.jpg"/>
          <p:cNvPicPr/>
          <p:nvPr/>
        </p:nvPicPr>
        <p:blipFill>
          <a:blip r:embed="rId1"/>
          <a:stretch/>
        </p:blipFill>
        <p:spPr>
          <a:xfrm>
            <a:off x="611280" y="2328840"/>
            <a:ext cx="3608280" cy="2705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www.autotravel.org.ua/images/doc/5/a/5a06049-3.jpg"/>
          <p:cNvPicPr/>
          <p:nvPr/>
        </p:nvPicPr>
        <p:blipFill>
          <a:blip r:embed="rId2"/>
          <a:stretch/>
        </p:blipFill>
        <p:spPr>
          <a:xfrm>
            <a:off x="4473720" y="2328840"/>
            <a:ext cx="4059000" cy="27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http://upload.wikimedia.org/wikipedia/commons/thumb/b/bb/India_%28orthographic_projection%29.svg/541px-India_%28orthographic_projection%29.svg.png"/>
          <p:cNvPicPr/>
          <p:nvPr/>
        </p:nvPicPr>
        <p:blipFill>
          <a:blip r:embed="rId1"/>
          <a:stretch/>
        </p:blipFill>
        <p:spPr>
          <a:xfrm>
            <a:off x="415800" y="1633680"/>
            <a:ext cx="4170600" cy="4171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upload.wikimedia.org/wikipedia/commons/5/51/India_flag.png"/>
          <p:cNvPicPr/>
          <p:nvPr/>
        </p:nvPicPr>
        <p:blipFill>
          <a:blip r:embed="rId2"/>
          <a:stretch/>
        </p:blipFill>
        <p:spPr>
          <a:xfrm>
            <a:off x="4960800" y="1890720"/>
            <a:ext cx="2837160" cy="18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Інд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4883040" y="4076640"/>
            <a:ext cx="386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ндія — краї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івденній Азії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я — міст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Де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Інд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826920" y="6005520"/>
            <a:ext cx="36054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Храм Лот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4854600" y="6005520"/>
            <a:ext cx="3241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Ґо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826920" y="3417840"/>
            <a:ext cx="36086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Тадж-Мах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4854600" y="3417840"/>
            <a:ext cx="324180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к Кан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Достопримечательности Индии: Тадж-Махал"/>
          <p:cNvPicPr/>
          <p:nvPr/>
        </p:nvPicPr>
        <p:blipFill>
          <a:blip r:embed="rId1"/>
          <a:stretch/>
        </p:blipFill>
        <p:spPr>
          <a:xfrm>
            <a:off x="826920" y="1263600"/>
            <a:ext cx="3605400" cy="2154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национальный парк канха"/>
          <p:cNvPicPr/>
          <p:nvPr/>
        </p:nvPicPr>
        <p:blipFill>
          <a:blip r:embed="rId2"/>
          <a:stretch/>
        </p:blipFill>
        <p:spPr>
          <a:xfrm>
            <a:off x="4854600" y="1263600"/>
            <a:ext cx="3241800" cy="215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s://upload.wikimedia.org/wikipedia/commons/5/5f/Bahai-house-of-worship-delhi2.jpg"/>
          <p:cNvPicPr/>
          <p:nvPr/>
        </p:nvPicPr>
        <p:blipFill>
          <a:blip r:embed="rId3"/>
          <a:stretch/>
        </p:blipFill>
        <p:spPr>
          <a:xfrm>
            <a:off x="826920" y="3978360"/>
            <a:ext cx="3608640" cy="2027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www.elmatur.com.ua/content/Image/otdyh-na-goa-2.jpg"/>
          <p:cNvPicPr/>
          <p:nvPr/>
        </p:nvPicPr>
        <p:blipFill>
          <a:blip r:embed="rId4"/>
          <a:stretch/>
        </p:blipFill>
        <p:spPr>
          <a:xfrm>
            <a:off x="4854600" y="3978360"/>
            <a:ext cx="3241800" cy="20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upload.wikimedia.org/wikipedia/commons/thumb/7/70/United_States_%28orthographic_projection%29.svg/541px-United_States_%28orthographic_projection%29.svg.png"/>
          <p:cNvPicPr/>
          <p:nvPr/>
        </p:nvPicPr>
        <p:blipFill>
          <a:blip r:embed="rId1"/>
          <a:stretch/>
        </p:blipFill>
        <p:spPr>
          <a:xfrm>
            <a:off x="471600" y="1704960"/>
            <a:ext cx="4171680" cy="417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upload.wikimedia.org/wikipedia/commons/thumb/a/a4/Flag_of_the_United_States.svg/1235px-Flag_of_the_United_States.svg.png"/>
          <p:cNvPicPr/>
          <p:nvPr/>
        </p:nvPicPr>
        <p:blipFill>
          <a:blip r:embed="rId2"/>
          <a:stretch/>
        </p:blipFill>
        <p:spPr>
          <a:xfrm>
            <a:off x="4960800" y="1890720"/>
            <a:ext cx="3592800" cy="18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4932360" y="4076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лучені Штати Америки — федеративне об'єднанн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івнічній Америці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о складається з 50 штаті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иця — місто Вашингт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824040" y="6005520"/>
            <a:ext cx="36003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Голлів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4854600" y="6005520"/>
            <a:ext cx="35337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татуя Своб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24040" y="3649680"/>
            <a:ext cx="36003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іст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олоті воро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worlds.ru/photo/usa_120620091227_4.JPG"/>
          <p:cNvPicPr/>
          <p:nvPr/>
        </p:nvPicPr>
        <p:blipFill>
          <a:blip r:embed="rId1"/>
          <a:stretch/>
        </p:blipFill>
        <p:spPr>
          <a:xfrm>
            <a:off x="4854600" y="129384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lingua-room.com/wp-content/uploads/2011/10/am_hollywood.jpg"/>
          <p:cNvPicPr/>
          <p:nvPr/>
        </p:nvPicPr>
        <p:blipFill>
          <a:blip r:embed="rId2"/>
          <a:stretch/>
        </p:blipFill>
        <p:spPr>
          <a:xfrm>
            <a:off x="824040" y="4216320"/>
            <a:ext cx="3600360" cy="178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theoutlook.com.ua/uploads/user/l1048755439.jpg"/>
          <p:cNvPicPr/>
          <p:nvPr/>
        </p:nvPicPr>
        <p:blipFill>
          <a:blip r:embed="rId3"/>
          <a:stretch/>
        </p:blipFill>
        <p:spPr>
          <a:xfrm>
            <a:off x="824040" y="1293840"/>
            <a:ext cx="3600360" cy="23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116000" y="6067440"/>
            <a:ext cx="30830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існейле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4560840" y="6067440"/>
            <a:ext cx="36273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ий Кань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116000" y="3263760"/>
            <a:ext cx="30830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Гора Раш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uslookus.files.wordpress.com/2014/02/d0bfd180d0b5d0b7d0b8d0b4d0b5d0bdd182d0bed0b2.jpg?w=710"/>
          <p:cNvPicPr/>
          <p:nvPr/>
        </p:nvPicPr>
        <p:blipFill>
          <a:blip r:embed="rId1"/>
          <a:stretch/>
        </p:blipFill>
        <p:spPr>
          <a:xfrm>
            <a:off x="1116000" y="1197000"/>
            <a:ext cx="3083040" cy="2074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ttp://os1.i.ua/3/7/10372382_72cac1ab.jpg"/>
          <p:cNvPicPr/>
          <p:nvPr/>
        </p:nvPicPr>
        <p:blipFill>
          <a:blip r:embed="rId2"/>
          <a:stretch/>
        </p:blipFill>
        <p:spPr>
          <a:xfrm>
            <a:off x="4560840" y="1197000"/>
            <a:ext cx="3630600" cy="207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www.planet-earth.ru/wp-content/uploads/disneyland_orlando11.jpg"/>
          <p:cNvPicPr/>
          <p:nvPr/>
        </p:nvPicPr>
        <p:blipFill>
          <a:blip r:embed="rId3"/>
          <a:stretch/>
        </p:blipFill>
        <p:spPr>
          <a:xfrm>
            <a:off x="1116000" y="375444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http://lifeglobe.net/x/entry/4991/8.jpg"/>
          <p:cNvPicPr/>
          <p:nvPr/>
        </p:nvPicPr>
        <p:blipFill>
          <a:blip r:embed="rId4"/>
          <a:stretch/>
        </p:blipFill>
        <p:spPr>
          <a:xfrm>
            <a:off x="4560840" y="3754440"/>
            <a:ext cx="3627360" cy="2313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4560840" y="3263760"/>
            <a:ext cx="362736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іагарський водосп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Велика Британ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859280" y="3568680"/>
            <a:ext cx="403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Вел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тані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суверенна держава, розташована біля північно-західного узбережжя континентальної Європи. Столиц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та найбільше місто)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Лонд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Файл:EU-United Kingdom.svg"/>
          <p:cNvPicPr/>
          <p:nvPr/>
        </p:nvPicPr>
        <p:blipFill>
          <a:blip r:embed="rId1"/>
          <a:stretch/>
        </p:blipFill>
        <p:spPr>
          <a:xfrm>
            <a:off x="663480" y="1916280"/>
            <a:ext cx="4014720" cy="41893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115" name="Picture 17" descr="http://upload.wikimedia.org/wikipedia/commons/thumb/a/ae/Flag_of_the_United_Kingdom.svg/1200px-Flag_of_the_United_Kingdom.svg.png"/>
          <p:cNvPicPr/>
          <p:nvPr/>
        </p:nvPicPr>
        <p:blipFill>
          <a:blip r:embed="rId2"/>
          <a:stretch/>
        </p:blipFill>
        <p:spPr>
          <a:xfrm>
            <a:off x="4932360" y="1916280"/>
            <a:ext cx="2813040" cy="140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Велика Британ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chydosan.narod.ru/Drev/St/St.gif"/>
          <p:cNvPicPr/>
          <p:nvPr/>
        </p:nvPicPr>
        <p:blipFill>
          <a:blip r:embed="rId1"/>
          <a:srcRect l="3872" t="38259" r="3468" b="6334"/>
          <a:stretch/>
        </p:blipFill>
        <p:spPr>
          <a:xfrm>
            <a:off x="668160" y="1444680"/>
            <a:ext cx="3903840" cy="1751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668160" y="5908680"/>
            <a:ext cx="39038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Лондонське 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cs310319.vk.me/v310319717/a1a/A8aim0pjrJY.jpg"/>
          <p:cNvPicPr/>
          <p:nvPr/>
        </p:nvPicPr>
        <p:blipFill>
          <a:blip r:embed="rId2"/>
          <a:stretch/>
        </p:blipFill>
        <p:spPr>
          <a:xfrm>
            <a:off x="4707000" y="1444680"/>
            <a:ext cx="3825720" cy="4464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4707000" y="5908680"/>
            <a:ext cx="382572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г Б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http://www.luxplanet.ua/static/img/3/4/348_or_650x443.jpg"/>
          <p:cNvPicPr/>
          <p:nvPr/>
        </p:nvPicPr>
        <p:blipFill>
          <a:blip r:embed="rId3"/>
          <a:stretch/>
        </p:blipFill>
        <p:spPr>
          <a:xfrm>
            <a:off x="668160" y="3676680"/>
            <a:ext cx="3903840" cy="2232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668160" y="3195720"/>
            <a:ext cx="3903840" cy="39888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тоунхен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upload.wikimedia.org/wikipedia/commons/thumb/a/a3/EU-France.svg/800px-EU-France.svg.png"/>
          <p:cNvPicPr/>
          <p:nvPr/>
        </p:nvPicPr>
        <p:blipFill>
          <a:blip r:embed="rId1"/>
          <a:stretch/>
        </p:blipFill>
        <p:spPr>
          <a:xfrm>
            <a:off x="663480" y="1916280"/>
            <a:ext cx="4014720" cy="41893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sp>
        <p:nvSpPr>
          <p:cNvPr id="124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Фр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5003640" y="433224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ранці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а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аході Європи. Столиця (та найбільше місто) — Пари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upload.wikimedia.org/wikipedia/commons/thumb/c/c3/Flag_of_France.svg/900px-Flag_of_France.svg.png"/>
          <p:cNvPicPr/>
          <p:nvPr/>
        </p:nvPicPr>
        <p:blipFill>
          <a:blip r:embed="rId2"/>
          <a:stretch/>
        </p:blipFill>
        <p:spPr>
          <a:xfrm>
            <a:off x="5003640" y="1916280"/>
            <a:ext cx="2772000" cy="184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Фр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1"/>
          <p:cNvGrpSpPr/>
          <p:nvPr/>
        </p:nvGrpSpPr>
        <p:grpSpPr>
          <a:xfrm>
            <a:off x="668160" y="1328760"/>
            <a:ext cx="7570800" cy="5158440"/>
            <a:chOff x="668160" y="1328760"/>
            <a:chExt cx="7570800" cy="5158440"/>
          </a:xfrm>
        </p:grpSpPr>
        <p:sp>
          <p:nvSpPr>
            <p:cNvPr id="129" name="TextBox 1"/>
            <p:cNvSpPr/>
            <p:nvPr/>
          </p:nvSpPr>
          <p:spPr>
            <a:xfrm>
              <a:off x="668160" y="6088320"/>
              <a:ext cx="4416480" cy="39888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Arial"/>
                </a:rPr>
                <a:t>Музей Лув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"/>
            <p:cNvSpPr/>
            <p:nvPr/>
          </p:nvSpPr>
          <p:spPr>
            <a:xfrm>
              <a:off x="5241240" y="6088320"/>
              <a:ext cx="2997720" cy="39888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Arial"/>
                </a:rPr>
                <a:t>Ейфелева веж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"/>
            <p:cNvSpPr/>
            <p:nvPr/>
          </p:nvSpPr>
          <p:spPr>
            <a:xfrm>
              <a:off x="668160" y="4130640"/>
              <a:ext cx="4416480" cy="39888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Arial"/>
                </a:rPr>
                <a:t>Нотр-Дам де Пар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2" descr="http://upload.wikimedia.org/wikipedia/commons/thumb/7/79/Paris_06_Eiffelturm_4828.jpg/250px-Paris_06_Eiffelturm_4828.jpg"/>
            <p:cNvPicPr/>
            <p:nvPr/>
          </p:nvPicPr>
          <p:blipFill>
            <a:blip r:embed="rId1"/>
            <a:stretch/>
          </p:blipFill>
          <p:spPr>
            <a:xfrm>
              <a:off x="5241240" y="1328760"/>
              <a:ext cx="2997720" cy="47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" descr="http://lifeglobe.net/x/entry/5054/16.jpg"/>
            <p:cNvPicPr/>
            <p:nvPr/>
          </p:nvPicPr>
          <p:blipFill>
            <a:blip r:embed="rId2"/>
            <a:stretch/>
          </p:blipFill>
          <p:spPr>
            <a:xfrm>
              <a:off x="668160" y="4643640"/>
              <a:ext cx="4416480" cy="14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0" descr="http://allcastle.info/assets/images/foto/135-2.jpg"/>
            <p:cNvPicPr/>
            <p:nvPr/>
          </p:nvPicPr>
          <p:blipFill>
            <a:blip r:embed="rId3"/>
            <a:stretch/>
          </p:blipFill>
          <p:spPr>
            <a:xfrm>
              <a:off x="668160" y="1328760"/>
              <a:ext cx="4416480" cy="2801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http://upload.wikimedia.org/wikipedia/commons/thumb/0/03/Flag_of_Italy.svg/1024px-Flag_of_Italy.svg.png"/>
          <p:cNvPicPr/>
          <p:nvPr/>
        </p:nvPicPr>
        <p:blipFill>
          <a:blip r:embed="rId1"/>
          <a:stretch/>
        </p:blipFill>
        <p:spPr>
          <a:xfrm>
            <a:off x="5003640" y="1916280"/>
            <a:ext cx="2772000" cy="184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Picture 2" descr="http://upload.wikimedia.org/wikipedia/commons/thumb/b/ba/EU-Italy.svg/800px-EU-Italy.svg.png"/>
          <p:cNvPicPr/>
          <p:nvPr/>
        </p:nvPicPr>
        <p:blipFill>
          <a:blip r:embed="rId2"/>
          <a:stretch/>
        </p:blipFill>
        <p:spPr>
          <a:xfrm>
            <a:off x="663480" y="1916280"/>
            <a:ext cx="4014720" cy="41893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sp>
        <p:nvSpPr>
          <p:cNvPr id="137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Італі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5003640" y="4332240"/>
            <a:ext cx="37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талія — держа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івдні Європ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земномор'ї. Столиця (та найбільше місто) —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5:23Z</dcterms:modified>
  <cp:revision>55</cp:revision>
  <dc:subject/>
  <dc:title>Презентация PowerPoint</dc:title>
</cp:coreProperties>
</file>