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511-1170-408D-81A5-A510B5AA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518-ABFB-4C1A-96CB-CC4F21F1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FC3-1318-45FC-B935-667728DB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24C-15D6-4056-B321-DB479220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3C84-AC62-494E-8AF3-ACE9F4C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4648-3476-4332-BA42-60D2DA5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CAA7-ABC4-449F-954E-26C8E415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407F-7187-4280-BFC0-94E186ED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972B-5433-4BD5-9D4C-627901D5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DAF2-36D0-4A53-8AB8-C91A7EEE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234-59B1-4F28-9D1C-442CCDAA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0C1-19D6-4DE4-A7CE-BDC35287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4B5E-03AE-433C-A4F1-BC8D65B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503-9254-4BA6-A170-32A1969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F47-136C-4DE5-84B8-719DBAF2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B572-057F-416C-B2F3-B4EFA9DC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ECB-C140-4EAD-9A57-2DDFD12B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57A-EEF6-48F9-8FBF-AA3DE4C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48A-CBCE-4A6C-AC71-AF97672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043-5B55-492F-9F30-01E5332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C11-23DE-44BB-A8FD-7D19C91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83D-A0A8-4FA6-AAF6-2AF905E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8F5-041E-4987-BD75-9FA46F5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D25-8023-427A-B6FF-BB22E2B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9496-8E17-4869-BFDA-4FA9E97819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158-36B6-40E0-B581-AD82C36690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258920" y="250020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ім’я. Склад сім’ї.  Українська родина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Сучасна украї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26280" cy="482112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Сучасна украї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ewl.com.au/wp-content/uploads/2013/02/iStock_000014337392_Medium-1024x682.jpg"/>
          <p:cNvPicPr/>
          <p:nvPr/>
        </p:nvPicPr>
        <p:blipFill>
          <a:blip r:embed="rId1"/>
          <a:stretch/>
        </p:blipFill>
        <p:spPr>
          <a:xfrm>
            <a:off x="685800" y="1197000"/>
            <a:ext cx="7772400" cy="517680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tarasshevchenko.at.ua/_ph/2/361567896.jpg"/>
          <p:cNvPicPr/>
          <p:nvPr/>
        </p:nvPicPr>
        <p:blipFill>
          <a:blip r:embed="rId1"/>
          <a:srcRect l="3907" t="4653" r="3260" b="3040"/>
          <a:stretch/>
        </p:blipFill>
        <p:spPr>
          <a:xfrm>
            <a:off x="1714680" y="1227240"/>
            <a:ext cx="5676840" cy="468612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sp>
        <p:nvSpPr>
          <p:cNvPr id="86" name="TextBox 1"/>
          <p:cNvSpPr/>
          <p:nvPr/>
        </p:nvSpPr>
        <p:spPr>
          <a:xfrm>
            <a:off x="1714680" y="5991120"/>
            <a:ext cx="567684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Шевченко «Селянська ро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"/>
          <p:cNvGrpSpPr/>
          <p:nvPr/>
        </p:nvGrpSpPr>
        <p:grpSpPr>
          <a:xfrm>
            <a:off x="1714680" y="1352520"/>
            <a:ext cx="5715000" cy="5066640"/>
            <a:chOff x="1714680" y="1352520"/>
            <a:chExt cx="5715000" cy="5066640"/>
          </a:xfrm>
        </p:grpSpPr>
        <p:pic>
          <p:nvPicPr>
            <p:cNvPr id="89" name="Picture 2" descr="Сваты картины Пимоненко"/>
            <p:cNvPicPr/>
            <p:nvPr/>
          </p:nvPicPr>
          <p:blipFill>
            <a:blip r:embed="rId1"/>
            <a:stretch/>
          </p:blipFill>
          <p:spPr>
            <a:xfrm>
              <a:off x="1714680" y="1352520"/>
              <a:ext cx="5715000" cy="452412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sp>
          <p:nvSpPr>
            <p:cNvPr id="90" name="TextBox 1"/>
            <p:cNvSpPr/>
            <p:nvPr/>
          </p:nvSpPr>
          <p:spPr>
            <a:xfrm>
              <a:off x="1714680" y="5959440"/>
              <a:ext cx="5715000" cy="45972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. Пимоненко «Сват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"/>
          <p:cNvGrpSpPr/>
          <p:nvPr/>
        </p:nvGrpSpPr>
        <p:grpSpPr>
          <a:xfrm>
            <a:off x="1042920" y="1413000"/>
            <a:ext cx="7000920" cy="4934880"/>
            <a:chOff x="1042920" y="1413000"/>
            <a:chExt cx="7000920" cy="4934880"/>
          </a:xfrm>
        </p:grpSpPr>
        <p:pic>
          <p:nvPicPr>
            <p:cNvPr id="93" name="Picture 2" descr="http://upload.wikimedia.org/wikipedia/commons/thumb/e/ea/Mykola_Pymonenko-Sinokis.jpg/1024px-Mykola_Pymonenko-Sinokis.jpg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000920" cy="4396320"/>
            </a:xfrm>
            <a:prstGeom prst="rect">
              <a:avLst/>
            </a:prstGeom>
            <a:ln w="19080">
              <a:solidFill>
                <a:srgbClr val="1f497d"/>
              </a:solidFill>
              <a:miter/>
            </a:ln>
          </p:spPr>
        </p:pic>
        <p:sp>
          <p:nvSpPr>
            <p:cNvPr id="94" name="TextBox 1"/>
            <p:cNvSpPr/>
            <p:nvPr/>
          </p:nvSpPr>
          <p:spPr>
            <a:xfrm>
              <a:off x="1042920" y="5888160"/>
              <a:ext cx="7000920" cy="459720"/>
            </a:xfrm>
            <a:prstGeom prst="rect">
              <a:avLst/>
            </a:pr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. Пимоненко «Сінокіс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yy4.fotoplenka.users.photofile.ru/photo/iyy4.fotoplenka/150555964/xlarge/162310240.jpg?"/>
          <p:cNvPicPr/>
          <p:nvPr/>
        </p:nvPicPr>
        <p:blipFill>
          <a:blip r:embed="rId1"/>
          <a:stretch/>
        </p:blipFill>
        <p:spPr>
          <a:xfrm>
            <a:off x="1008000" y="1460520"/>
            <a:ext cx="7128000" cy="470520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sp>
        <p:nvSpPr>
          <p:cNvPr id="97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селянська 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visit-card.com.ua/info/im/5/1.jpg"/>
          <p:cNvPicPr/>
          <p:nvPr/>
        </p:nvPicPr>
        <p:blipFill>
          <a:blip r:embed="rId1"/>
          <a:stretch/>
        </p:blipFill>
        <p:spPr>
          <a:xfrm>
            <a:off x="5070600" y="1482840"/>
            <a:ext cx="3173400" cy="47624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sp>
        <p:nvSpPr>
          <p:cNvPr id="99" name="TextBox 3"/>
          <p:cNvSpPr/>
          <p:nvPr/>
        </p:nvSpPr>
        <p:spPr>
          <a:xfrm>
            <a:off x="358920" y="476280"/>
            <a:ext cx="84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а гостинн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www.puzatahata.com.ua/images/news/for_sayt_1.jpg"/>
          <p:cNvPicPr/>
          <p:nvPr/>
        </p:nvPicPr>
        <p:blipFill>
          <a:blip r:embed="rId2"/>
          <a:srcRect l="0" t="0" r="18588" b="0"/>
          <a:stretch/>
        </p:blipFill>
        <p:spPr>
          <a:xfrm>
            <a:off x="838080" y="1482840"/>
            <a:ext cx="3878280" cy="47624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foodclub.ru/upload/iblock/359/1.jpg"/>
          <p:cNvPicPr/>
          <p:nvPr/>
        </p:nvPicPr>
        <p:blipFill>
          <a:blip r:embed="rId1"/>
          <a:srcRect l="0" t="9555" r="0" b="0"/>
          <a:stretch/>
        </p:blipFill>
        <p:spPr>
          <a:xfrm>
            <a:off x="4789440" y="1341360"/>
            <a:ext cx="3727440" cy="2244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2" name="TextBox 3"/>
          <p:cNvSpPr/>
          <p:nvPr/>
        </p:nvSpPr>
        <p:spPr>
          <a:xfrm>
            <a:off x="1440000" y="47628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і стра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img1.liveinternet.ru/images/attach/b/4/103/968/103968497_2749438_vareniki_1_.jpg"/>
          <p:cNvPicPr/>
          <p:nvPr/>
        </p:nvPicPr>
        <p:blipFill>
          <a:blip r:embed="rId2"/>
          <a:stretch/>
        </p:blipFill>
        <p:spPr>
          <a:xfrm>
            <a:off x="684360" y="3873600"/>
            <a:ext cx="3786120" cy="24829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4" name="Picture 2" descr="http://ssoll.ru/img/R85c.jpg"/>
          <p:cNvPicPr/>
          <p:nvPr/>
        </p:nvPicPr>
        <p:blipFill>
          <a:blip r:embed="rId3"/>
          <a:srcRect l="11626" t="0" r="0" b="0"/>
          <a:stretch/>
        </p:blipFill>
        <p:spPr>
          <a:xfrm>
            <a:off x="684360" y="1341360"/>
            <a:ext cx="3786120" cy="2244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5" name="Picture 4" descr="http://brightwallpapers.com.ua/Uploads/31-3-2013/0ecf0ab9-6b50-464a-b703-ba0022e68d72/thumb2-b9a23582de8cf28fd46a5f7f1ab4bd5c.jpg"/>
          <p:cNvPicPr/>
          <p:nvPr/>
        </p:nvPicPr>
        <p:blipFill>
          <a:blip r:embed="rId4"/>
          <a:srcRect l="3673" t="0" r="2443" b="0"/>
          <a:stretch/>
        </p:blipFill>
        <p:spPr>
          <a:xfrm>
            <a:off x="4789440" y="3873600"/>
            <a:ext cx="3727440" cy="24829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pustunchik.ua/uploads/holiday/cache/d4d55965050e22366555d9e0fd35a79d.jpg"/>
          <p:cNvPicPr/>
          <p:nvPr/>
        </p:nvPicPr>
        <p:blipFill>
          <a:blip r:embed="rId1"/>
          <a:stretch/>
        </p:blipFill>
        <p:spPr>
          <a:xfrm>
            <a:off x="1476360" y="1521000"/>
            <a:ext cx="6191280" cy="46447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7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ий святковий сті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11280" y="47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7cc"/>
                </a:solidFill>
                <a:latin typeface="Arial"/>
              </a:rPr>
              <a:t>Український святковий сті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ic.pics.livejournal.com/terskiykazak/32244818/181070/181070_original.jpg"/>
          <p:cNvPicPr/>
          <p:nvPr/>
        </p:nvPicPr>
        <p:blipFill>
          <a:blip r:embed="rId1"/>
          <a:stretch/>
        </p:blipFill>
        <p:spPr>
          <a:xfrm>
            <a:off x="728640" y="1773360"/>
            <a:ext cx="7686720" cy="413388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Sasha</cp:lastModifiedBy>
  <dcterms:modified xsi:type="dcterms:W3CDTF">2015-01-12T09:32:30Z</dcterms:modified>
  <cp:revision>49</cp:revision>
  <dc:subject/>
  <dc:title>Презентация PowerPoint</dc:title>
</cp:coreProperties>
</file>