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5030-4C7C-4CD2-BABB-717F6A6E24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628C-7C8D-4750-BFDF-16158D4C0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8C61-C43E-436A-9640-5657C83E3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B7E-2D60-442B-9F63-1EA3A7DF1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F7D-2D59-4257-8EA9-56DAA8C5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FC2-531C-4A4A-B230-91C1F5F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820-CDE4-483C-8944-A9D27B2E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C93-656F-4F8F-9EC2-47495C2C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A0A7-600D-40C1-9C19-FB5AC11C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4A59-B131-40FE-97FC-AFE03F7D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245F-5068-430D-B79E-F6DCCD6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FBBF-DC50-464E-89D1-C182993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2106-6FA3-4FCF-85F2-ED31F9A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B20-0957-46FA-AF43-A0946369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5899-5EE7-46F8-9700-85D682B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B91-C184-4617-B345-4782B955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171-5F1C-4442-B103-46DD810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012-6E1D-4485-85C2-ED6EAFA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3779-0881-4F20-96CD-A710917A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2834-E20E-4B6F-9EB5-917A7290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598D-DA9F-4796-9C9E-53108761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54F-13C7-46C6-B199-9A6256BB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C29-40F0-4647-90CF-E4129597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68A-C4E6-4755-8BAF-23E89BAF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809-D3BC-40D3-BD6F-74F86ED2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5EF-9A46-4EB0-8966-34023EA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C32-0980-4B76-8F6E-EE45CDA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E27-7C36-4E60-96EF-6FFEF2A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AB8-E62B-42A2-A1CB-C7126A86F8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BAC-A93F-4841-B22A-E709817334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150920" y="249228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и світу.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и-сусід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http://img.cdnl.luxnet.ua/tv24/resources/photos/news/420x315_DIR/201311/384743.jpg?Mar%2017,%202014%206:14:33%20PM"/>
          <p:cNvPicPr/>
          <p:nvPr/>
        </p:nvPicPr>
        <p:blipFill>
          <a:blip r:embed="rId2"/>
          <a:stretch/>
        </p:blipFill>
        <p:spPr>
          <a:xfrm>
            <a:off x="6195960" y="1428840"/>
            <a:ext cx="2487600" cy="1866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5" name="Picture 9" descr="http://www.totalrealty.ru/upload/analize/44ef8-evropeiskoe-vnj-v-ukraine.jpg"/>
          <p:cNvPicPr/>
          <p:nvPr/>
        </p:nvPicPr>
        <p:blipFill>
          <a:blip r:embed="rId3"/>
          <a:srcRect l="38829" t="4748" r="0" b="0"/>
          <a:stretch/>
        </p:blipFill>
        <p:spPr>
          <a:xfrm>
            <a:off x="6195960" y="3444840"/>
            <a:ext cx="2487600" cy="2792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7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5640" y="4724280"/>
            <a:ext cx="1944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с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755640" y="1212840"/>
            <a:ext cx="1944720" cy="129528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00" name="Picture 10" descr="http://nemiga.info/moskva/spasskaya-bashnya.jpg"/>
          <p:cNvPicPr/>
          <p:nvPr/>
        </p:nvPicPr>
        <p:blipFill>
          <a:blip r:embed="rId3"/>
          <a:srcRect l="5887" t="0" r="13539" b="-113"/>
          <a:stretch/>
        </p:blipFill>
        <p:spPr>
          <a:xfrm>
            <a:off x="6156360" y="1428840"/>
            <a:ext cx="2503440" cy="23320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1" name="Picture 12" descr="http://otdyhaem.by/upload/medialibrary/da0/da08315f06272466dea843f13a880628.jpg"/>
          <p:cNvPicPr/>
          <p:nvPr/>
        </p:nvPicPr>
        <p:blipFill>
          <a:blip r:embed="rId4"/>
          <a:srcRect l="6951" t="684" r="30715" b="410"/>
          <a:stretch/>
        </p:blipFill>
        <p:spPr>
          <a:xfrm>
            <a:off x="6156360" y="3894120"/>
            <a:ext cx="2503440" cy="23432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755640" y="4724280"/>
            <a:ext cx="2160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іло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нсь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08108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06" name="Picture 7" descr="http://spansion.by/wp-content/uploads/2013/12/plloshhad-nezavisimosti.jpg"/>
          <p:cNvPicPr/>
          <p:nvPr/>
        </p:nvPicPr>
        <p:blipFill>
          <a:blip r:embed="rId3"/>
          <a:srcRect l="7926" t="0" r="17818" b="0"/>
          <a:stretch/>
        </p:blipFill>
        <p:spPr>
          <a:xfrm>
            <a:off x="6156360" y="1428840"/>
            <a:ext cx="2441520" cy="2185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7" name="Picture 9" descr="http://100dorog.ru/upload/contents/678/Minsk.-Natsionalnaya-biblioteka-Belarusi.jpg"/>
          <p:cNvPicPr/>
          <p:nvPr/>
        </p:nvPicPr>
        <p:blipFill>
          <a:blip r:embed="rId4"/>
          <a:srcRect l="18445" t="0" r="19937" b="0"/>
          <a:stretch/>
        </p:blipFill>
        <p:spPr>
          <a:xfrm>
            <a:off x="6156360" y="3790800"/>
            <a:ext cx="2441520" cy="2446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9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55640" y="4724280"/>
            <a:ext cx="1944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ь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ш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755640" y="1252440"/>
            <a:ext cx="1944720" cy="121464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12" name="Picture 2" descr="http://svo-trans.ru/assets/i/upload/poland.jpg"/>
          <p:cNvPicPr/>
          <p:nvPr/>
        </p:nvPicPr>
        <p:blipFill>
          <a:blip r:embed="rId3"/>
          <a:srcRect l="9595" t="0" r="0" b="0"/>
          <a:stretch/>
        </p:blipFill>
        <p:spPr>
          <a:xfrm>
            <a:off x="6095880" y="1428840"/>
            <a:ext cx="2613240" cy="2166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3" name="Picture 4" descr="http://www.nice-places.com/data/articles/gallery/531/6432.jpg"/>
          <p:cNvPicPr/>
          <p:nvPr/>
        </p:nvPicPr>
        <p:blipFill>
          <a:blip r:embed="rId4"/>
          <a:srcRect l="0" t="4283" r="40299" b="0"/>
          <a:stretch/>
        </p:blipFill>
        <p:spPr>
          <a:xfrm>
            <a:off x="6095880" y="3687840"/>
            <a:ext cx="2613240" cy="2549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"/>
          <p:cNvPicPr/>
          <p:nvPr/>
        </p:nvPicPr>
        <p:blipFill>
          <a:blip r:embed="rId1"/>
          <a:srcRect l="15178" t="0" r="0" b="4589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55640" y="4724280"/>
            <a:ext cx="280836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ловач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ратис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18" name="Picture 5" descr="http://www.1000dorog.info/img/catfiles/103/i14/750x500x0/14572.gif"/>
          <p:cNvPicPr/>
          <p:nvPr/>
        </p:nvPicPr>
        <p:blipFill>
          <a:blip r:embed="rId3"/>
          <a:srcRect l="10658" t="0" r="15519" b="0"/>
          <a:stretch/>
        </p:blipFill>
        <p:spPr>
          <a:xfrm>
            <a:off x="6156360" y="1428840"/>
            <a:ext cx="2535120" cy="2576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9" name="Picture 7" descr="http://intourist-tour.com.ua/obz/5539/tury-slovakiya.jpg"/>
          <p:cNvPicPr/>
          <p:nvPr/>
        </p:nvPicPr>
        <p:blipFill>
          <a:blip r:embed="rId4"/>
          <a:srcRect l="18671" t="11433" r="25807" b="16210"/>
          <a:stretch/>
        </p:blipFill>
        <p:spPr>
          <a:xfrm>
            <a:off x="6156360" y="4172040"/>
            <a:ext cx="2535120" cy="20653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5" descr=""/>
          <p:cNvPicPr/>
          <p:nvPr/>
        </p:nvPicPr>
        <p:blipFill>
          <a:blip r:embed="rId1"/>
          <a:srcRect l="15287" t="0" r="0" b="4707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21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55640" y="4724280"/>
            <a:ext cx="249876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горщ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дапе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24" name="Picture 6" descr="http://www.svali.ru/pic/pictures/21/r_p_aec44d0f61c7c9aa1649bd44d514102e.jpg"/>
          <p:cNvPicPr/>
          <p:nvPr/>
        </p:nvPicPr>
        <p:blipFill>
          <a:blip r:embed="rId3"/>
          <a:srcRect l="13023" t="8510" r="9945" b="0"/>
          <a:stretch/>
        </p:blipFill>
        <p:spPr>
          <a:xfrm>
            <a:off x="6135840" y="1424160"/>
            <a:ext cx="2625480" cy="20761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25" name="Picture 8" descr="http://www.picture-russia.ru/wares/9/f/a/9fa66e0a8aa9ead64eb35972bc07091e.jpg"/>
          <p:cNvPicPr/>
          <p:nvPr/>
        </p:nvPicPr>
        <p:blipFill>
          <a:blip r:embed="rId4"/>
          <a:srcRect l="13622" t="0" r="14589" b="0"/>
          <a:stretch/>
        </p:blipFill>
        <p:spPr>
          <a:xfrm>
            <a:off x="6135840" y="3691080"/>
            <a:ext cx="2625480" cy="25462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14919" t="0" r="0" b="4301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27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4724280"/>
            <a:ext cx="2160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уму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ха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44000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30" name="Picture 6" descr=""/>
          <p:cNvPicPr/>
          <p:nvPr/>
        </p:nvPicPr>
        <p:blipFill>
          <a:blip r:embed="rId3"/>
          <a:srcRect l="4440" t="0" r="16246" b="0"/>
          <a:stretch/>
        </p:blipFill>
        <p:spPr>
          <a:xfrm>
            <a:off x="6135840" y="1428840"/>
            <a:ext cx="2625480" cy="24048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4"/>
          <a:srcRect l="6006" t="0" r="6764" b="0"/>
          <a:stretch/>
        </p:blipFill>
        <p:spPr>
          <a:xfrm>
            <a:off x="6135840" y="3979800"/>
            <a:ext cx="2625480" cy="2257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"/>
          <p:cNvPicPr/>
          <p:nvPr/>
        </p:nvPicPr>
        <p:blipFill>
          <a:blip r:embed="rId1"/>
          <a:srcRect l="14923" t="0" r="0" b="4301"/>
          <a:stretch/>
        </p:blipFill>
        <p:spPr>
          <a:xfrm>
            <a:off x="539640" y="1428840"/>
            <a:ext cx="5430960" cy="4808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раїни-сусі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55640" y="4724280"/>
            <a:ext cx="251928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fa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fac"/>
                </a:solidFill>
                <a:latin typeface="Arial"/>
              </a:rPr>
              <a:t>Столиц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ишин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519280" cy="1260720"/>
          </a:xfrm>
          <a:prstGeom prst="rect">
            <a:avLst/>
          </a:prstGeom>
          <a:ln cap="sq" w="19080">
            <a:solidFill>
              <a:srgbClr val="007fac"/>
            </a:solidFill>
            <a:miter/>
          </a:ln>
        </p:spPr>
      </p:pic>
      <p:pic>
        <p:nvPicPr>
          <p:cNvPr id="136" name="Picture 6" descr=""/>
          <p:cNvPicPr/>
          <p:nvPr/>
        </p:nvPicPr>
        <p:blipFill>
          <a:blip r:embed="rId3"/>
          <a:srcRect l="15949" t="0" r="0" b="2221"/>
          <a:stretch/>
        </p:blipFill>
        <p:spPr>
          <a:xfrm>
            <a:off x="6135840" y="1428840"/>
            <a:ext cx="2625480" cy="22874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37" name="Picture 8" descr=""/>
          <p:cNvPicPr/>
          <p:nvPr/>
        </p:nvPicPr>
        <p:blipFill>
          <a:blip r:embed="rId4"/>
          <a:srcRect l="6705" t="0" r="16927" b="0"/>
          <a:stretch/>
        </p:blipFill>
        <p:spPr>
          <a:xfrm>
            <a:off x="6135840" y="3860640"/>
            <a:ext cx="2625480" cy="2376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6:18Z</dcterms:modified>
  <cp:revision>28</cp:revision>
  <dc:subject/>
  <dc:title>Презентация PowerPoint</dc:title>
</cp:coreProperties>
</file>