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55AF-5D43-4650-9360-DD328C67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445-F067-48BD-B028-5FA4EBD7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6B81-39FE-4ADC-B0DE-5459D371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E8C9-63B9-4174-8389-BB7818CA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0D4E-2245-4C5A-85AC-225F6479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D2DB-57D8-42F9-A2F4-9A5E0584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6FD9-7495-40BB-86B1-F9487FCB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F477-3B3A-43F2-823B-396E489B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E270-1069-4303-A50F-C29953C8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1F3C-A09B-4F1C-B541-F5848BE7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6CB3-D882-429C-9E7F-1B1A9ADB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765E-FAF4-4ECE-ADBA-FDAA5CE0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ECE3-75F6-4790-A996-69DC04AF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EAA9-90CB-4735-BB6C-DC3D1D7B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FE15-3E94-4E0A-81B1-AD4DC031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D639-EE6E-4F45-82BD-3710DCCC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8E34-5E6A-407A-B7DC-C5283312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1943-7945-41EB-A679-3E0F0A69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9DB-AFC2-4CAD-A21D-5C7DF347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744E-B67F-4B7C-8314-2C9A29CE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40F3-E3DF-4625-9ACA-04DCC2FB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EEE-11A9-4D8C-891F-AA915A69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029A-1A15-4158-8A08-A28F3980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466-919B-4AAD-BA97-ADA6B820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F8DA-3AF3-4680-B7EA-1A6EEFE2BB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517C-1BBF-4EEA-A8B0-57C9B9DDE6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"/>
          <p:cNvSpPr/>
          <p:nvPr/>
        </p:nvSpPr>
        <p:spPr>
          <a:xfrm>
            <a:off x="216000" y="1844640"/>
            <a:ext cx="8712000" cy="28796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150920" y="2852640"/>
            <a:ext cx="68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Я в суспільств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http://www.womanparadise.ru/wp-content/uploads/2014/07/%d0%b7%d0%b0-%d1%83%d1%87%d0%b8%d0%bb%d0%b8%d1%89%d0%b5.jpg-23.jpg"/>
          <p:cNvPicPr/>
          <p:nvPr/>
        </p:nvPicPr>
        <p:blipFill>
          <a:blip r:embed="rId1"/>
          <a:stretch/>
        </p:blipFill>
        <p:spPr>
          <a:xfrm>
            <a:off x="4572000" y="1635120"/>
            <a:ext cx="1463760" cy="379584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Людина серед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3037320" y="2602080"/>
            <a:ext cx="123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500" spc="-1" strike="noStrike">
                <a:solidFill>
                  <a:srgbClr val="77933c"/>
                </a:solidFill>
                <a:latin typeface="Arial"/>
              </a:rPr>
              <a:t>Я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1187280" y="558972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особисті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http://www.womanparadise.ru/wp-content/uploads/2014/07/%d0%b7%d0%b0-%d1%83%d1%87%d0%b8%d0%bb%d0%b8%d1%89%d0%b5.jpg-23.jpg"/>
          <p:cNvPicPr/>
          <p:nvPr/>
        </p:nvPicPr>
        <p:blipFill>
          <a:blip r:embed="rId1"/>
          <a:stretch/>
        </p:blipFill>
        <p:spPr>
          <a:xfrm>
            <a:off x="6156360" y="1665360"/>
            <a:ext cx="1463760" cy="379548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Людина серед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4621680" y="2631960"/>
            <a:ext cx="123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500" spc="-1" strike="noStrike">
                <a:solidFill>
                  <a:srgbClr val="77933c"/>
                </a:solidFill>
                <a:latin typeface="Arial"/>
              </a:rPr>
              <a:t>Я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4284720" y="558972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член роди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F:\ПРЕЗЕНТАЦИИ\Н_Началка\Плакаты\Картинки\1554439.jpg"/>
          <p:cNvPicPr/>
          <p:nvPr/>
        </p:nvPicPr>
        <p:blipFill>
          <a:blip r:embed="rId2"/>
          <a:stretch/>
        </p:blipFill>
        <p:spPr>
          <a:xfrm>
            <a:off x="863640" y="4027320"/>
            <a:ext cx="2771640" cy="213840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94" name="Picture 3" descr="F:\ПРЕЗЕНТАЦИИ\Н_Началка\Плакаты\Картинки\b656b33ef20f194129676d747ae3358a.jpg"/>
          <p:cNvPicPr/>
          <p:nvPr/>
        </p:nvPicPr>
        <p:blipFill>
          <a:blip r:embed="rId3"/>
          <a:stretch/>
        </p:blipFill>
        <p:spPr>
          <a:xfrm>
            <a:off x="863640" y="1665360"/>
            <a:ext cx="2771640" cy="204768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9" descr="http://www.womanparadise.ru/wp-content/uploads/2014/07/%d0%b7%d0%b0-%d1%83%d1%87%d0%b8%d0%bb%d0%b8%d1%89%d0%b5.jpg-23.jpg"/>
          <p:cNvPicPr/>
          <p:nvPr/>
        </p:nvPicPr>
        <p:blipFill>
          <a:blip r:embed="rId1"/>
          <a:stretch/>
        </p:blipFill>
        <p:spPr>
          <a:xfrm>
            <a:off x="6156360" y="1665360"/>
            <a:ext cx="1463760" cy="379548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Людина серед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4621680" y="2631960"/>
            <a:ext cx="123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500" spc="-1" strike="noStrike">
                <a:solidFill>
                  <a:srgbClr val="77933c"/>
                </a:solidFill>
                <a:latin typeface="Arial"/>
              </a:rPr>
              <a:t>Я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284720" y="558972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учень кла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://ashki.com.ru/photos/horiz/obschi/3.jpg"/>
          <p:cNvPicPr/>
          <p:nvPr/>
        </p:nvPicPr>
        <p:blipFill>
          <a:blip r:embed="rId2"/>
          <a:stretch/>
        </p:blipFill>
        <p:spPr>
          <a:xfrm>
            <a:off x="585720" y="1413000"/>
            <a:ext cx="3409920" cy="235404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00" name="Picture 4" descr="http://img.vl.ru/i/news/add_files/big1156741_320.jpg"/>
          <p:cNvPicPr/>
          <p:nvPr/>
        </p:nvPicPr>
        <p:blipFill>
          <a:blip r:embed="rId3"/>
          <a:srcRect l="6723" t="10679" r="0" b="0"/>
          <a:stretch/>
        </p:blipFill>
        <p:spPr>
          <a:xfrm>
            <a:off x="585720" y="3989520"/>
            <a:ext cx="3409920" cy="217620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http://www.womanparadise.ru/wp-content/uploads/2014/07/%d0%b7%d0%b0-%d1%83%d1%87%d0%b8%d0%bb%d0%b8%d1%89%d0%b5.jpg-23.jpg"/>
          <p:cNvPicPr/>
          <p:nvPr/>
        </p:nvPicPr>
        <p:blipFill>
          <a:blip r:embed="rId1"/>
          <a:stretch/>
        </p:blipFill>
        <p:spPr>
          <a:xfrm>
            <a:off x="6156360" y="1665360"/>
            <a:ext cx="1463760" cy="37954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Людина серед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4621680" y="2631960"/>
            <a:ext cx="123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500" spc="-1" strike="noStrike">
                <a:solidFill>
                  <a:srgbClr val="77933c"/>
                </a:solidFill>
                <a:latin typeface="Arial"/>
              </a:rPr>
              <a:t>Я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3995640" y="544500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купець, пішохід, пасаж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http://colibris.com.ua/img/K22/K22-2.jpg"/>
          <p:cNvPicPr/>
          <p:nvPr/>
        </p:nvPicPr>
        <p:blipFill>
          <a:blip r:embed="rId2"/>
          <a:stretch/>
        </p:blipFill>
        <p:spPr>
          <a:xfrm>
            <a:off x="631800" y="1413000"/>
            <a:ext cx="3282840" cy="21873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06" name="Picture 6" descr="http://cs11518.vkontakte.ru/u458537/114350993/z_06bf3514.jpg"/>
          <p:cNvPicPr/>
          <p:nvPr/>
        </p:nvPicPr>
        <p:blipFill>
          <a:blip r:embed="rId3"/>
          <a:srcRect l="0" t="0" r="0" b="10362"/>
          <a:stretch/>
        </p:blipFill>
        <p:spPr>
          <a:xfrm>
            <a:off x="631800" y="3789360"/>
            <a:ext cx="3282840" cy="24811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9" descr="http://www.womanparadise.ru/wp-content/uploads/2014/07/%d0%b7%d0%b0-%d1%83%d1%87%d0%b8%d0%bb%d0%b8%d1%89%d0%b5.jpg-23.jpg"/>
          <p:cNvPicPr/>
          <p:nvPr/>
        </p:nvPicPr>
        <p:blipFill>
          <a:blip r:embed="rId1"/>
          <a:stretch/>
        </p:blipFill>
        <p:spPr>
          <a:xfrm>
            <a:off x="6875640" y="1665360"/>
            <a:ext cx="1463400" cy="37954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Людина серед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5340960" y="2631960"/>
            <a:ext cx="123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500" spc="-1" strike="noStrike">
                <a:solidFill>
                  <a:srgbClr val="77933c"/>
                </a:solidFill>
                <a:latin typeface="Arial"/>
              </a:rPr>
              <a:t>Я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003640" y="544500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громадя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http://3.bp.blogspot.com/-QPbFHHXmalU/VAXwz_RfuJI/AAAAAAAAAjQ/hVYQsAMESnc/s1600/ukraine_map.png"/>
          <p:cNvPicPr/>
          <p:nvPr/>
        </p:nvPicPr>
        <p:blipFill>
          <a:blip r:embed="rId2"/>
          <a:stretch/>
        </p:blipFill>
        <p:spPr>
          <a:xfrm>
            <a:off x="357120" y="2060640"/>
            <a:ext cx="4924440" cy="336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8" descr="http://4.bp.blogspot.com/-Y-V2fuBvo9U/UPmzS3N7keI/AAAAAAAAAhQ/Ff5NGGC-KLg/s1600/NI%C3%91OS_DERECHOS.jpg"/>
          <p:cNvPicPr/>
          <p:nvPr/>
        </p:nvPicPr>
        <p:blipFill>
          <a:blip r:embed="rId1"/>
          <a:srcRect l="0" t="3850" r="0" b="0"/>
          <a:stretch/>
        </p:blipFill>
        <p:spPr>
          <a:xfrm>
            <a:off x="395280" y="1581120"/>
            <a:ext cx="4743360" cy="4368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http://www.womanparadise.ru/wp-content/uploads/2014/07/%d0%b7%d0%b0-%d1%83%d1%87%d0%b8%d0%bb%d0%b8%d1%89%d0%b5.jpg-23.jpg"/>
          <p:cNvPicPr/>
          <p:nvPr/>
        </p:nvPicPr>
        <p:blipFill>
          <a:blip r:embed="rId2"/>
          <a:stretch/>
        </p:blipFill>
        <p:spPr>
          <a:xfrm>
            <a:off x="6875640" y="1665360"/>
            <a:ext cx="1463400" cy="37954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988920" y="417600"/>
            <a:ext cx="71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</a:rPr>
              <a:t>Людина серед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340960" y="2631960"/>
            <a:ext cx="123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500" spc="-1" strike="noStrike">
                <a:solidFill>
                  <a:srgbClr val="77933c"/>
                </a:solidFill>
                <a:latin typeface="Arial"/>
              </a:rPr>
              <a:t>Я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5003640" y="544500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частина лю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15:04:04Z</dcterms:created>
  <dc:creator>Sasha</dc:creator>
  <dc:description/>
  <dc:language>en-US</dc:language>
  <cp:lastModifiedBy>admin</cp:lastModifiedBy>
  <dcterms:modified xsi:type="dcterms:W3CDTF">2014-12-24T10:33:22Z</dcterms:modified>
  <cp:revision>30</cp:revision>
  <dc:subject/>
  <dc:title>Презентация PowerPoint</dc:title>
</cp:coreProperties>
</file>