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F75-75B5-4FCC-A9E0-7198913DB2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072-127D-416A-B4F2-76C9D8846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357-1CA9-4DCB-BD3D-0915DEA9C1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C9DC-6408-40E5-B8C6-1F85808C6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«розкидані» слова зникають зі слайду, після чого з’являється складений із цих слів висл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B53-6F64-4482-94FF-2313497301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кліком зображення хлопчика переміщується із центру слайда праворуч, а на вільному місці 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являється карт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120-0BBE-49AA-B11A-7C23996AB2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 першим кліком позитивні риси характеру зафарбовуються зеленим кольором, за другим — негативні риси характеру зафарбовуються черво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BFD-7F14-488B-936A-EDEDC3F3F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CE6C-E71E-401C-A8AD-8CB1177FA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7D7-ABEB-4F08-8DB2-5E8CC456A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30E-678F-4D0C-859E-D02D5352A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A5A-D98D-47C0-A92D-F60632A4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CDA-9C36-40B4-AA1E-ECE3C85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20F-4DBD-4BDF-81CE-8E8ED95B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8C2-7CFE-47B0-9C8C-3E42A60A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0DFB-200A-4514-AA12-C03CF8B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659-19FD-474C-A066-7CBF943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A98E-A13B-47D7-83DF-5BDB6F9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0C0D-DBA8-4EFE-8F2B-3138EA2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48C5-8E09-4B5C-8E84-3BCDF1F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569D-DC2B-4624-B917-4BBA15C8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ACC-0A78-429D-BFE9-1CBEA91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535-41B9-4EB4-8644-557CBD2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15A0-9CBE-48ED-9701-8D25994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5B1E-14AA-4785-8654-4076559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9D5-ECDB-4A3D-993C-1ADB26F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CE31-912C-4421-A815-5D1E91DB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0C28-B3E9-40F4-9422-C4EBAC9A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370-CAA1-49BC-8977-784F14F1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17D-FCAD-4F1D-9695-FE4418C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E96-421A-4E16-A21F-02C7DF66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28C-0690-4E2E-9CBD-3495953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28E-3299-449A-8F83-E906DB8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606-69CE-4AE3-8B00-F5EDAA8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02B-EFBD-4B61-9343-E051CB31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695A-6942-4470-A754-8D9557150A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D4DF-291A-4B35-B90B-304AFDFC36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16000" y="1844640"/>
            <a:ext cx="8712000" cy="2879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16000" y="2506680"/>
            <a:ext cx="87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Людське „Я“. 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особистості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8"/>
          <p:cNvSpPr/>
          <p:nvPr/>
        </p:nvSpPr>
        <p:spPr>
          <a:xfrm>
            <a:off x="4842720" y="2128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3290400" y="428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а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1118160" y="52592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15640" y="32529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743040" y="2060640"/>
            <a:ext cx="62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У  праці — краса люди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4827960" y="3222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8"/>
          <p:cNvSpPr/>
          <p:nvPr/>
        </p:nvSpPr>
        <p:spPr>
          <a:xfrm>
            <a:off x="4263120" y="1847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908640" y="27828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0"/>
          <p:cNvSpPr/>
          <p:nvPr/>
        </p:nvSpPr>
        <p:spPr>
          <a:xfrm>
            <a:off x="3554280" y="50846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1"/>
          <p:cNvSpPr/>
          <p:nvPr/>
        </p:nvSpPr>
        <p:spPr>
          <a:xfrm>
            <a:off x="3349080" y="366696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4"/>
          <p:cNvSpPr/>
          <p:nvPr/>
        </p:nvSpPr>
        <p:spPr>
          <a:xfrm>
            <a:off x="743040" y="2060640"/>
            <a:ext cx="81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Краса людини — у красі характе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1270440" y="501156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3"/>
          <p:cNvSpPr/>
          <p:nvPr/>
        </p:nvSpPr>
        <p:spPr>
          <a:xfrm>
            <a:off x="7125840" y="18478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8"/>
          <p:cNvSpPr/>
          <p:nvPr/>
        </p:nvSpPr>
        <p:spPr>
          <a:xfrm>
            <a:off x="4919760" y="56419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2576520" y="443880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икраша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4135680" y="244152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роз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1"/>
          <p:cNvSpPr/>
          <p:nvPr/>
        </p:nvSpPr>
        <p:spPr>
          <a:xfrm>
            <a:off x="1798920" y="3557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в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4"/>
          <p:cNvSpPr/>
          <p:nvPr/>
        </p:nvSpPr>
        <p:spPr>
          <a:xfrm>
            <a:off x="743040" y="206064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Не врода прикрашає, а роз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6"/>
          <p:cNvSpPr/>
          <p:nvPr/>
        </p:nvSpPr>
        <p:spPr>
          <a:xfrm>
            <a:off x="1574640" y="1776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8"/>
          <p:cNvSpPr/>
          <p:nvPr/>
        </p:nvSpPr>
        <p:spPr>
          <a:xfrm>
            <a:off x="1883520" y="141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602800" y="5533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икраша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1883160" y="308772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зем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1"/>
          <p:cNvSpPr/>
          <p:nvPr/>
        </p:nvSpPr>
        <p:spPr>
          <a:xfrm>
            <a:off x="1567800" y="448632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со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4"/>
          <p:cNvSpPr/>
          <p:nvPr/>
        </p:nvSpPr>
        <p:spPr>
          <a:xfrm>
            <a:off x="743040" y="206064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Землю прикрашає сонце, </a:t>
            </a:r>
            <a:br>
              <a:rPr sz="3600"/>
            </a:br>
            <a:r>
              <a:rPr b="1" lang="uk-UA" sz="3600" spc="-1" strike="noStrike">
                <a:solidFill>
                  <a:srgbClr val="c00000"/>
                </a:solidFill>
                <a:latin typeface="Arial"/>
                <a:ea typeface="Arial"/>
              </a:rPr>
              <a:t>а людину — прац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http://www.njuskalo.hr/image-w920x690/instrukcije-poduke/pomoc-pri-ucenju-instrukcije-sesvete-slika-16280306.jpg"/>
          <p:cNvPicPr/>
          <p:nvPr/>
        </p:nvPicPr>
        <p:blipFill>
          <a:blip r:embed="rId1"/>
          <a:stretch/>
        </p:blipFill>
        <p:spPr>
          <a:xfrm>
            <a:off x="6443640" y="3200400"/>
            <a:ext cx="2129040" cy="31050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6"/>
          <p:cNvSpPr/>
          <p:nvPr/>
        </p:nvSpPr>
        <p:spPr>
          <a:xfrm>
            <a:off x="3889800" y="4048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а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4306320" y="276372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лю.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5534280" y="15238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Хто 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1835280" y="3646440"/>
            <a:ext cx="1541160" cy="244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152360" y="1989000"/>
            <a:ext cx="1047960" cy="165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4"/>
          <a:stretch/>
        </p:blipFill>
        <p:spPr>
          <a:xfrm>
            <a:off x="5999040" y="4376880"/>
            <a:ext cx="800280" cy="126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6799320" y="1793880"/>
            <a:ext cx="1047600" cy="16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Хто я в родині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F:\ПРЕЗЕНТАЦИИ\Н_Началка\Плакаты\Картинки\1554439.jpg"/>
          <p:cNvPicPr/>
          <p:nvPr/>
        </p:nvPicPr>
        <p:blipFill>
          <a:blip r:embed="rId2"/>
          <a:stretch/>
        </p:blipFill>
        <p:spPr>
          <a:xfrm>
            <a:off x="5722920" y="1452600"/>
            <a:ext cx="2654280" cy="204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:\ПРЕЗЕНТАЦИИ\Н_Началка\Плакаты\Картинки\b656b33ef20f194129676d747ae3358a.jpg"/>
          <p:cNvPicPr/>
          <p:nvPr/>
        </p:nvPicPr>
        <p:blipFill>
          <a:blip r:embed="rId3"/>
          <a:stretch/>
        </p:blipFill>
        <p:spPr>
          <a:xfrm>
            <a:off x="538200" y="1452600"/>
            <a:ext cx="2771640" cy="20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F:\ПРЕЗЕНТАЦИИ\Н_Началка\Плакаты\Картинки\raduga-pict.narod.ru213.jpg"/>
          <p:cNvPicPr/>
          <p:nvPr/>
        </p:nvPicPr>
        <p:blipFill>
          <a:blip r:embed="rId4"/>
          <a:stretch/>
        </p:blipFill>
        <p:spPr>
          <a:xfrm>
            <a:off x="538200" y="4052880"/>
            <a:ext cx="277164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:\ПРЕЗЕНТАЦИИ\Н_Началка\Плакаты\Картинки\o-COUPLE-AT-HOUSE-SHOWING-facebook.jpg"/>
          <p:cNvPicPr/>
          <p:nvPr/>
        </p:nvPicPr>
        <p:blipFill>
          <a:blip r:embed="rId5"/>
          <a:srcRect l="0" t="0" r="0" b="-363"/>
          <a:stretch/>
        </p:blipFill>
        <p:spPr>
          <a:xfrm>
            <a:off x="5722920" y="4052880"/>
            <a:ext cx="2654280" cy="2189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538200" y="3398760"/>
            <a:ext cx="27716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538200" y="5934240"/>
            <a:ext cx="277164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22920" y="593424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лемі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722920" y="33987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он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я поведі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F:\ПРЕЗЕНТАЦИИ\Н_Началка\Плакаты\Картинки\emocii.jpg"/>
          <p:cNvPicPr/>
          <p:nvPr/>
        </p:nvPicPr>
        <p:blipFill>
          <a:blip r:embed="rId2"/>
          <a:stretch/>
        </p:blipFill>
        <p:spPr>
          <a:xfrm>
            <a:off x="1440000" y="2060640"/>
            <a:ext cx="1647720" cy="2520720"/>
          </a:xfrm>
          <a:prstGeom prst="rect">
            <a:avLst/>
          </a:prstGeom>
          <a:ln w="38160">
            <a:solidFill>
              <a:srgbClr val="007fac"/>
            </a:solidFill>
            <a:miter/>
          </a:ln>
        </p:spPr>
      </p:pic>
      <p:pic>
        <p:nvPicPr>
          <p:cNvPr id="111" name="Picture 6" descr="F:\ПРЕЗЕНТАЦИИ\Н_Началка\Плакаты\Картинки\emocii.jpg"/>
          <p:cNvPicPr/>
          <p:nvPr/>
        </p:nvPicPr>
        <p:blipFill>
          <a:blip r:embed="rId3"/>
          <a:stretch/>
        </p:blipFill>
        <p:spPr>
          <a:xfrm>
            <a:off x="6075360" y="2046240"/>
            <a:ext cx="1649520" cy="2497320"/>
          </a:xfrm>
          <a:prstGeom prst="rect">
            <a:avLst/>
          </a:prstGeom>
          <a:ln w="38160">
            <a:solidFill>
              <a:srgbClr val="007fac"/>
            </a:solidFill>
            <a:miter/>
          </a:ln>
        </p:spPr>
      </p:pic>
      <p:sp>
        <p:nvSpPr>
          <p:cNvPr id="112" name="TextBox 9"/>
          <p:cNvSpPr/>
          <p:nvPr/>
        </p:nvSpPr>
        <p:spPr>
          <a:xfrm>
            <a:off x="936720" y="50133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лухн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572080" y="5013360"/>
            <a:ext cx="2654280" cy="4597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неслухн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я зовнішні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3728880" y="1793880"/>
            <a:ext cx="1686240" cy="437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www.sorokopud.ru/pict/photo/20120500_sch1205/DSC00787c34.jpg"/>
          <p:cNvPicPr/>
          <p:nvPr/>
        </p:nvPicPr>
        <p:blipFill>
          <a:blip r:embed="rId2"/>
          <a:stretch/>
        </p:blipFill>
        <p:spPr>
          <a:xfrm>
            <a:off x="684360" y="1989000"/>
            <a:ext cx="5322600" cy="389412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33073 -0.00671 E">
                                      <p:cBhvr>
                                        <p:cTn id="6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440000" y="476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ій харак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773760" y="1762200"/>
            <a:ext cx="1685880" cy="43718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91560" y="24354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мі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95520" y="4941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ацьови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920320" y="410544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віч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5020920" y="15987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чу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016240" y="41054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щедр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693000" y="570384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кром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5021640" y="32702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чес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2919600" y="2435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відкри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5017680" y="4941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ахаб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692640" y="41054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жадіб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691920" y="15987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мкнут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2916720" y="4941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рех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5018760" y="243540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л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2917080" y="32702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айдуж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2917440" y="159876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оягуз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690120" y="32702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груб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250920" y="476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ї інтереси та захопл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http://www.womanparadise.ru/wp-content/uploads/2014/07/%d0%b7%d0%b0-%d1%83%d1%87%d0%b8%d0%bb%d0%b8%d1%89%d0%b5.jpg-23.jpg"/>
          <p:cNvPicPr/>
          <p:nvPr/>
        </p:nvPicPr>
        <p:blipFill>
          <a:blip r:embed="rId1"/>
          <a:stretch/>
        </p:blipFill>
        <p:spPr>
          <a:xfrm>
            <a:off x="6773760" y="1762200"/>
            <a:ext cx="1685880" cy="43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eleschool.ru/wp-content/uploads/2014/06/5_krujok.jpg"/>
          <p:cNvPicPr/>
          <p:nvPr/>
        </p:nvPicPr>
        <p:blipFill>
          <a:blip r:embed="rId2"/>
          <a:stretch/>
        </p:blipFill>
        <p:spPr>
          <a:xfrm>
            <a:off x="725400" y="1612800"/>
            <a:ext cx="2886120" cy="217656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38" name="Picture 6" descr="http://cs410617.vk.me/v410617465/478f/crOh3h7VAkw.jpg"/>
          <p:cNvPicPr/>
          <p:nvPr/>
        </p:nvPicPr>
        <p:blipFill>
          <a:blip r:embed="rId3"/>
          <a:srcRect l="0" t="-99" r="0" b="0"/>
          <a:stretch/>
        </p:blipFill>
        <p:spPr>
          <a:xfrm>
            <a:off x="4006800" y="1612800"/>
            <a:ext cx="2278080" cy="217656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39" name="Picture 10" descr="http://www.drovoseki.ru/sites/default/files/r_0004.jpg"/>
          <p:cNvPicPr/>
          <p:nvPr/>
        </p:nvPicPr>
        <p:blipFill>
          <a:blip r:embed="rId4"/>
          <a:stretch/>
        </p:blipFill>
        <p:spPr>
          <a:xfrm>
            <a:off x="725400" y="4124160"/>
            <a:ext cx="2886120" cy="1930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0" name="Picture 12" descr="http://www.pzpn.pl/public/system/images/articles/822/1013-zoom.jpg"/>
          <p:cNvPicPr/>
          <p:nvPr/>
        </p:nvPicPr>
        <p:blipFill>
          <a:blip r:embed="rId5"/>
          <a:stretch/>
        </p:blipFill>
        <p:spPr>
          <a:xfrm>
            <a:off x="4008600" y="4124160"/>
            <a:ext cx="2278080" cy="1930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250920" y="476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7cc"/>
                </a:solidFill>
                <a:latin typeface="Arial"/>
                <a:ea typeface="Arial"/>
              </a:rPr>
              <a:t>Мої інтереси та захопл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shkolnik-forma.ru/wp-content/uploads/2014/04/%D0%A8%D0%A4-486.jpg"/>
          <p:cNvPicPr/>
          <p:nvPr/>
        </p:nvPicPr>
        <p:blipFill>
          <a:blip r:embed="rId1"/>
          <a:stretch/>
        </p:blipFill>
        <p:spPr>
          <a:xfrm>
            <a:off x="5940360" y="1844640"/>
            <a:ext cx="3160800" cy="422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www.bekasovschool.com.ua/images/klass1.jpg"/>
          <p:cNvPicPr/>
          <p:nvPr/>
        </p:nvPicPr>
        <p:blipFill>
          <a:blip r:embed="rId2"/>
          <a:stretch/>
        </p:blipFill>
        <p:spPr>
          <a:xfrm>
            <a:off x="611280" y="1698480"/>
            <a:ext cx="2663640" cy="18716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4" name="Picture 10" descr="http://image.etov.com.ua/storage/640x640/1/0/8/d/108df5ced24ef879bcd43b6c8887ccbe.jpg"/>
          <p:cNvPicPr/>
          <p:nvPr/>
        </p:nvPicPr>
        <p:blipFill>
          <a:blip r:embed="rId3"/>
          <a:stretch/>
        </p:blipFill>
        <p:spPr>
          <a:xfrm>
            <a:off x="3638520" y="3959280"/>
            <a:ext cx="2816280" cy="20620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5" name="Picture 12" descr="http://artwork96.ru/static/img/0000/0001/3317/13317291.pib1paum9l.jpg?1"/>
          <p:cNvPicPr/>
          <p:nvPr/>
        </p:nvPicPr>
        <p:blipFill>
          <a:blip r:embed="rId4"/>
          <a:stretch/>
        </p:blipFill>
        <p:spPr>
          <a:xfrm>
            <a:off x="3638520" y="1698480"/>
            <a:ext cx="2816280" cy="187164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6" name="Picture 16" descr="http://cristofori.asia/ver4/wp-content/uploads/2012/06/course_guitar_classical.jpg"/>
          <p:cNvPicPr/>
          <p:nvPr/>
        </p:nvPicPr>
        <p:blipFill>
          <a:blip r:embed="rId5"/>
          <a:stretch/>
        </p:blipFill>
        <p:spPr>
          <a:xfrm>
            <a:off x="633240" y="3957480"/>
            <a:ext cx="2664000" cy="20638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50920" y="47628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7cc"/>
                </a:solidFill>
                <a:latin typeface="Arial"/>
                <a:ea typeface="Arial"/>
              </a:rPr>
              <a:t>Моє ставлення </a:t>
            </a:r>
            <a:br>
              <a:rPr sz="4000"/>
            </a:br>
            <a:r>
              <a:rPr b="1" lang="ru-RU" sz="4000" spc="-1" strike="noStrike">
                <a:solidFill>
                  <a:srgbClr val="0097cc"/>
                </a:solidFill>
                <a:latin typeface="Arial"/>
                <a:ea typeface="Arial"/>
              </a:rPr>
              <a:t>до інш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s://ubb.org.ua/media/projects/2013/04/18/report/69130a1a0454b6ba174dfe1b8da3b34bc92756bc.jpg"/>
          <p:cNvPicPr/>
          <p:nvPr/>
        </p:nvPicPr>
        <p:blipFill>
          <a:blip r:embed="rId1"/>
          <a:stretch/>
        </p:blipFill>
        <p:spPr>
          <a:xfrm>
            <a:off x="676440" y="2081160"/>
            <a:ext cx="4128840" cy="3865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  <p:pic>
        <p:nvPicPr>
          <p:cNvPr id="149" name="Picture 4" descr="http://www.mediaport.ua/images/119905_700.jpg"/>
          <p:cNvPicPr/>
          <p:nvPr/>
        </p:nvPicPr>
        <p:blipFill>
          <a:blip r:embed="rId2"/>
          <a:stretch/>
        </p:blipFill>
        <p:spPr>
          <a:xfrm>
            <a:off x="5211720" y="2081160"/>
            <a:ext cx="3247920" cy="3865680"/>
          </a:xfrm>
          <a:prstGeom prst="rect">
            <a:avLst/>
          </a:prstGeom>
          <a:ln w="19080">
            <a:solidFill>
              <a:srgbClr val="1f497d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5:04:04Z</dcterms:created>
  <dc:creator>Sasha</dc:creator>
  <dc:description/>
  <dc:language>en-US</dc:language>
  <cp:lastModifiedBy>Alex</cp:lastModifiedBy>
  <dcterms:modified xsi:type="dcterms:W3CDTF">2015-07-14T13:30:16Z</dcterms:modified>
  <cp:revision>33</cp:revision>
  <dc:subject/>
  <dc:title>Презентация PowerPoint</dc:title>
</cp:coreProperties>
</file>