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A863-BE87-4431-B29B-E072A854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3AFD-103A-4779-B7FB-7801ADAA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FB2E-AD98-4B77-ADD8-A5E88AAD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2B1D-755A-44EE-887B-0AE1A0E1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CD7C-DDA6-4195-AA1E-49A2449F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D80F-1F5C-44C7-BF1C-B6769324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FAA7-FA70-4D0B-940F-1E3314B9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B306-CADA-4825-9082-9D352DFA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CB5A-882C-474D-950D-DE99CADD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F693-208B-4B29-8783-9154A942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EC22-1835-4458-8043-72BEFCFD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4023-6521-484F-AFBA-03980F1C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5BBA-BDB4-4D03-8168-8D802624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0061-370C-441C-B59D-D42AB785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BC0C-6271-4D43-9068-67659D9D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82E6-2C20-486A-A781-955AF59D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E925-1C0D-4677-8C22-A2E0F3BC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468E-A76B-40FF-A210-4E41B3A4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2374-D2E1-4E56-912E-47CA0BC4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71B8-DCAB-4754-A821-F0CBDFCD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15CB-BBCE-4902-8D56-30FD6D61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0F7C-B974-40EE-9FC9-08629518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F72C-0222-41D9-862D-094581C4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B9D7-81CE-4C77-A70D-1ACEC497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BB08-3FFB-4D69-9399-A4AD1857B25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5FE6-9F76-4E3D-ADB2-ABBB84567B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2"/>
          <p:cNvSpPr/>
          <p:nvPr/>
        </p:nvSpPr>
        <p:spPr>
          <a:xfrm>
            <a:off x="216000" y="1844640"/>
            <a:ext cx="8712000" cy="28796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150920" y="2886120"/>
            <a:ext cx="68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имволи України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1020600" y="4983120"/>
            <a:ext cx="212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алий герб Украї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Державний герб Украї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Lesser Coat of Arms of Ukraine.svg"/>
          <p:cNvPicPr/>
          <p:nvPr/>
        </p:nvPicPr>
        <p:blipFill>
          <a:blip r:embed="rId1"/>
          <a:stretch/>
        </p:blipFill>
        <p:spPr>
          <a:xfrm>
            <a:off x="1100160" y="2106720"/>
            <a:ext cx="1905120" cy="26575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"/>
          <p:cNvSpPr/>
          <p:nvPr/>
        </p:nvSpPr>
        <p:spPr>
          <a:xfrm>
            <a:off x="3473280" y="2106720"/>
            <a:ext cx="505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 лютого 1992 року затверджено Малий Державний герб України. Центральною геральдичною фігурою герба є Тризуб Володимира І Святого, великого князя київського, володаря Рус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Державний герб Украї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4572000" y="2106720"/>
            <a:ext cx="39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итуцією також передбачений і Великий Державний герб, однак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цього часу йо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рийня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http://upload.wikimedia.org/wikipedia/commons/a/a2/Large_coat_of_arms_of_Ukraine_%28color%29.png"/>
          <p:cNvPicPr/>
          <p:nvPr/>
        </p:nvPicPr>
        <p:blipFill>
          <a:blip r:embed="rId1"/>
          <a:stretch/>
        </p:blipFill>
        <p:spPr>
          <a:xfrm>
            <a:off x="861840" y="1700280"/>
            <a:ext cx="3278520" cy="346860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376200" y="5149800"/>
            <a:ext cx="424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т Великого герба України авторського колективу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. Івахненка (199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Державний прапор Украї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512640" y="4292640"/>
            <a:ext cx="830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ьори прапора походять від герба Галицько-Волинської держави. У європейській геральдиці синій символізує великодушність, чесність, вірніст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і бездоганність. Жовтий (золотий) — знатність, могутність і багатство, силу, вірність, справедливі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std3.ru/a1/b9/1404560719-a1b98089c2edba7392c8eb706b96d0fb.jpg"/>
          <p:cNvPicPr/>
          <p:nvPr/>
        </p:nvPicPr>
        <p:blipFill>
          <a:blip r:embed="rId1"/>
          <a:stretch/>
        </p:blipFill>
        <p:spPr>
          <a:xfrm>
            <a:off x="568440" y="1484280"/>
            <a:ext cx="4147920" cy="259236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96" name="Прямоугольник 1"/>
          <p:cNvSpPr/>
          <p:nvPr/>
        </p:nvSpPr>
        <p:spPr>
          <a:xfrm>
            <a:off x="4859280" y="148428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 серпня в Україні щорічно відзначають День Державного прап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Державний прапор Украї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646200" y="4965840"/>
            <a:ext cx="79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Існує популярне негеральдичне тлумачення, за яким синій колір символізує небо, а жовтий — пшеничне колос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http://upload.wikimedia.org/wikipedia/commons/e/ee/Flag_colors.jpg"/>
          <p:cNvPicPr/>
          <p:nvPr/>
        </p:nvPicPr>
        <p:blipFill>
          <a:blip r:embed="rId1"/>
          <a:stretch/>
        </p:blipFill>
        <p:spPr>
          <a:xfrm>
            <a:off x="2411280" y="1773360"/>
            <a:ext cx="4302360" cy="286056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Державний гімн Украї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646200" y="4965840"/>
            <a:ext cx="79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жавним гімном є перший куплет та приспів пісні «Ще не вмерла України і Слава, і Воля», слов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вла Чубинського, музика Михайла Вербицьк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ttp://kntu.net.ua/var/ezwebin_site/storage/images/derzhavni-simvoli-ukrayini/derzhavnij-gimn-ukrayini/413863152/208486-1-ukr-UA/413863152_ultralarge.jpg"/>
          <p:cNvPicPr/>
          <p:nvPr/>
        </p:nvPicPr>
        <p:blipFill>
          <a:blip r:embed="rId1"/>
          <a:srcRect l="5975" t="23427" r="6444" b="47687"/>
          <a:stretch/>
        </p:blipFill>
        <p:spPr>
          <a:xfrm>
            <a:off x="1763640" y="1773360"/>
            <a:ext cx="5673960" cy="26557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Державна мова Украї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593640" y="2871720"/>
            <a:ext cx="3889440" cy="2320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http://www.nastol.com.ua/pic/201109/1024x1024/nastol.com.ua-7856.jpg"/>
          <p:cNvPicPr/>
          <p:nvPr/>
        </p:nvPicPr>
        <p:blipFill>
          <a:blip r:embed="rId2"/>
          <a:stretch/>
        </p:blipFill>
        <p:spPr>
          <a:xfrm>
            <a:off x="4859280" y="2060640"/>
            <a:ext cx="3362400" cy="336240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Символи Украї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http://www.graycell.ru/picture/big/snop5.jpg"/>
          <p:cNvPicPr/>
          <p:nvPr/>
        </p:nvPicPr>
        <p:blipFill>
          <a:blip r:embed="rId1"/>
          <a:srcRect l="12047" t="0" r="19167" b="0"/>
          <a:stretch/>
        </p:blipFill>
        <p:spPr>
          <a:xfrm rot="469800">
            <a:off x="6227280" y="267840"/>
            <a:ext cx="3049560" cy="4432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http://komuz.com.ua/upload/shop_1/2/8/5/item_285/shop_items_catalog_image285.png"/>
          <p:cNvPicPr/>
          <p:nvPr/>
        </p:nvPicPr>
        <p:blipFill>
          <a:blip r:embed="rId2"/>
          <a:srcRect l="2478" t="3219" r="2940" b="3438"/>
          <a:stretch/>
        </p:blipFill>
        <p:spPr>
          <a:xfrm>
            <a:off x="3825720" y="3063960"/>
            <a:ext cx="4849920" cy="3533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http://rushnik-svadba-spb.narod.ru/5/rushnik.gif"/>
          <p:cNvPicPr/>
          <p:nvPr/>
        </p:nvPicPr>
        <p:blipFill>
          <a:blip r:embed="rId3"/>
          <a:stretch/>
        </p:blipFill>
        <p:spPr>
          <a:xfrm>
            <a:off x="25560" y="1251000"/>
            <a:ext cx="3811320" cy="4022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pub-pinta.ru/components/pinta_menu/uploads/images/1352463498_2UHzWQDZ.png"/>
          <p:cNvPicPr/>
          <p:nvPr/>
        </p:nvPicPr>
        <p:blipFill>
          <a:blip r:embed="rId4"/>
          <a:srcRect l="0" t="18662" r="0" b="22826"/>
          <a:stretch/>
        </p:blipFill>
        <p:spPr>
          <a:xfrm>
            <a:off x="365040" y="3819600"/>
            <a:ext cx="5191200" cy="3038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http://motanka.in.ua/img-upload/motanka-divchina.png"/>
          <p:cNvPicPr/>
          <p:nvPr/>
        </p:nvPicPr>
        <p:blipFill>
          <a:blip r:embed="rId5"/>
          <a:stretch/>
        </p:blipFill>
        <p:spPr>
          <a:xfrm>
            <a:off x="4572000" y="1508040"/>
            <a:ext cx="2021040" cy="231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3"/>
          <p:cNvSpPr/>
          <p:nvPr/>
        </p:nvSpPr>
        <p:spPr>
          <a:xfrm>
            <a:off x="358920" y="47628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7cc"/>
                </a:solidFill>
                <a:latin typeface="Arial"/>
              </a:rPr>
              <a:t>Символи Украї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://sadoc.at.ua/Abricosi/1254570331_urojai_kaliny_sadovoi.jpg"/>
          <p:cNvPicPr/>
          <p:nvPr/>
        </p:nvPicPr>
        <p:blipFill>
          <a:blip r:embed="rId1"/>
          <a:stretch/>
        </p:blipFill>
        <p:spPr>
          <a:xfrm>
            <a:off x="900000" y="1382760"/>
            <a:ext cx="3603600" cy="240336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14" name="Picture 6" descr="http://agronomist.in.ua/wp-content/uploads/2013/06/chornobr.jpg"/>
          <p:cNvPicPr/>
          <p:nvPr/>
        </p:nvPicPr>
        <p:blipFill>
          <a:blip r:embed="rId2"/>
          <a:stretch/>
        </p:blipFill>
        <p:spPr>
          <a:xfrm>
            <a:off x="4645080" y="1382760"/>
            <a:ext cx="3456000" cy="240336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15" name="Picture 8" descr="http://www.arminerussia.ru/uploads/posts/2009-06/1245627997_spring_dreaming.jpg"/>
          <p:cNvPicPr/>
          <p:nvPr/>
        </p:nvPicPr>
        <p:blipFill>
          <a:blip r:embed="rId3"/>
          <a:srcRect l="0" t="0" r="0" b="7096"/>
          <a:stretch/>
        </p:blipFill>
        <p:spPr>
          <a:xfrm>
            <a:off x="4643280" y="3933720"/>
            <a:ext cx="3456000" cy="240984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16" name="Picture 4" descr="http://stphotoshop.ru/_nw/0/50768860.png"/>
          <p:cNvPicPr/>
          <p:nvPr/>
        </p:nvPicPr>
        <p:blipFill>
          <a:blip r:embed="rId4"/>
          <a:stretch/>
        </p:blipFill>
        <p:spPr>
          <a:xfrm>
            <a:off x="969840" y="2490840"/>
            <a:ext cx="4106880" cy="410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15:04:04Z</dcterms:created>
  <dc:creator>Sasha</dc:creator>
  <dc:description/>
  <dc:language>en-US</dc:language>
  <cp:lastModifiedBy>Sasha</cp:lastModifiedBy>
  <dcterms:modified xsi:type="dcterms:W3CDTF">2015-01-12T09:33:51Z</dcterms:modified>
  <cp:revision>64</cp:revision>
  <dc:subject/>
  <dc:title>Презентация PowerPoint</dc:title>
</cp:coreProperties>
</file>