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ADE-73E8-4FB3-951F-02ECAF6C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D52-339F-4618-8546-A9ECED7B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89F-86BC-4FE6-B7A9-A0F26ECF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9F8-2B1E-40F9-BC2D-80BEDF7E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B55C-A3E2-4B3C-A1E7-FD34308A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E51E-7FD0-4AF0-9556-01F1686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C1A4-4C05-4513-8E96-00941FCB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2180-6555-4551-863E-BD31AA24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C21E-53AE-4EED-B47A-CD3835EA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0680-9434-474F-9F48-727138BD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79D9-43C9-4983-9231-A013DEA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6E4-6EB4-463F-BF7B-2D8C8D64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3518-5BC0-4025-B31F-EB24B1B9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5950-DE42-4C6A-8CD4-FDA7E750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0206-2B62-4018-B8EA-D1CD0EAF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55A0-29C8-433B-BF8C-E236BC1B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85C6-DADC-4C58-BFFB-1BF3695A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29F-0D0B-4C8F-91B0-A05643F2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631-A22B-46DF-8A93-5C99FDC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97C-ACEA-45D3-8784-C6F805D6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7DD-121D-4EF4-839F-B15E2375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347-A9F1-44F4-B167-0256585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B7B-5ECB-45D2-B423-647FA95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E47-92EB-4B57-82A3-40FDD7B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473-0544-4A0D-B626-06C7BFFA2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211F-043D-40AB-92E2-9BDA4C303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150920" y="285264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 в суспільств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4572000" y="1635120"/>
            <a:ext cx="1463760" cy="3795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3037320" y="260208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187280" y="558972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собист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156360" y="1665360"/>
            <a:ext cx="1463760" cy="3795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62168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284720" y="5589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лен род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ПРЕЗЕНТАЦИИ\Н_Началка\Плакаты\Картинки\1554439.jpg"/>
          <p:cNvPicPr/>
          <p:nvPr/>
        </p:nvPicPr>
        <p:blipFill>
          <a:blip r:embed="rId2"/>
          <a:stretch/>
        </p:blipFill>
        <p:spPr>
          <a:xfrm>
            <a:off x="863640" y="4027320"/>
            <a:ext cx="2771640" cy="21384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94" name="Picture 3" descr="F:\ПРЕЗЕНТАЦИИ\Н_Началка\Плакаты\Картинки\b656b33ef20f194129676d747ae3358a.jpg"/>
          <p:cNvPicPr/>
          <p:nvPr/>
        </p:nvPicPr>
        <p:blipFill>
          <a:blip r:embed="rId3"/>
          <a:stretch/>
        </p:blipFill>
        <p:spPr>
          <a:xfrm>
            <a:off x="863640" y="1665360"/>
            <a:ext cx="2771640" cy="204768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156360" y="1665360"/>
            <a:ext cx="1463760" cy="3795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62168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284720" y="5589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учень кла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ashki.com.ru/photos/horiz/obschi/3.jpg"/>
          <p:cNvPicPr/>
          <p:nvPr/>
        </p:nvPicPr>
        <p:blipFill>
          <a:blip r:embed="rId2"/>
          <a:stretch/>
        </p:blipFill>
        <p:spPr>
          <a:xfrm>
            <a:off x="585720" y="1413000"/>
            <a:ext cx="3409920" cy="23540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0" name="Picture 4" descr="http://img.vl.ru/i/news/add_files/big1156741_320.jpg"/>
          <p:cNvPicPr/>
          <p:nvPr/>
        </p:nvPicPr>
        <p:blipFill>
          <a:blip r:embed="rId3"/>
          <a:srcRect l="6723" t="10679" r="0" b="0"/>
          <a:stretch/>
        </p:blipFill>
        <p:spPr>
          <a:xfrm>
            <a:off x="585720" y="3989520"/>
            <a:ext cx="3409920" cy="21762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156360" y="1665360"/>
            <a:ext cx="1463760" cy="3795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62168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995640" y="54450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купець, пішохід, паса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colibris.com.ua/img/K22/K22-2.jpg"/>
          <p:cNvPicPr/>
          <p:nvPr/>
        </p:nvPicPr>
        <p:blipFill>
          <a:blip r:embed="rId2"/>
          <a:stretch/>
        </p:blipFill>
        <p:spPr>
          <a:xfrm>
            <a:off x="631800" y="1413000"/>
            <a:ext cx="3282840" cy="2187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6" name="Picture 6" descr="http://cs11518.vkontakte.ru/u458537/114350993/z_06bf3514.jpg"/>
          <p:cNvPicPr/>
          <p:nvPr/>
        </p:nvPicPr>
        <p:blipFill>
          <a:blip r:embed="rId3"/>
          <a:srcRect l="0" t="0" r="0" b="10362"/>
          <a:stretch/>
        </p:blipFill>
        <p:spPr>
          <a:xfrm>
            <a:off x="631800" y="3789360"/>
            <a:ext cx="3282840" cy="24811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875640" y="1665360"/>
            <a:ext cx="1463400" cy="3795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34096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003640" y="5445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ромадя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http://3.bp.blogspot.com/-QPbFHHXmalU/VAXwz_RfuJI/AAAAAAAAAjQ/hVYQsAMESnc/s1600/ukraine_map.png"/>
          <p:cNvPicPr/>
          <p:nvPr/>
        </p:nvPicPr>
        <p:blipFill>
          <a:blip r:embed="rId2"/>
          <a:stretch/>
        </p:blipFill>
        <p:spPr>
          <a:xfrm>
            <a:off x="357120" y="2060640"/>
            <a:ext cx="4924440" cy="336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http://4.bp.blogspot.com/-Y-V2fuBvo9U/UPmzS3N7keI/AAAAAAAAAhQ/Ff5NGGC-KLg/s1600/NI%C3%91OS_DERECHOS.jpg"/>
          <p:cNvPicPr/>
          <p:nvPr/>
        </p:nvPicPr>
        <p:blipFill>
          <a:blip r:embed="rId1"/>
          <a:srcRect l="0" t="3850" r="0" b="0"/>
          <a:stretch/>
        </p:blipFill>
        <p:spPr>
          <a:xfrm>
            <a:off x="395280" y="1581120"/>
            <a:ext cx="4743360" cy="436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http://www.womanparadise.ru/wp-content/uploads/2014/07/%d0%b7%d0%b0-%d1%83%d1%87%d0%b8%d0%bb%d0%b8%d1%89%d0%b5.jpg-23.jpg"/>
          <p:cNvPicPr/>
          <p:nvPr/>
        </p:nvPicPr>
        <p:blipFill>
          <a:blip r:embed="rId2"/>
          <a:stretch/>
        </p:blipFill>
        <p:spPr>
          <a:xfrm>
            <a:off x="6875640" y="1665360"/>
            <a:ext cx="1463400" cy="37954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34096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003640" y="5445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частина лю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admin</cp:lastModifiedBy>
  <dcterms:modified xsi:type="dcterms:W3CDTF">2014-12-24T10:33:22Z</dcterms:modified>
  <cp:revision>30</cp:revision>
  <dc:subject/>
  <dc:title>Презентация PowerPoint</dc:title>
</cp:coreProperties>
</file>