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408-799C-40C1-81A6-A9CFBF0B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262-C197-433F-A6FC-207DCEC7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95F-D74C-4413-A2B5-21E8CFDE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73D-0545-4B75-AE17-008D77B1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7E21-AD61-4338-A14C-F7920773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B6BC-B269-4C08-9181-A24D0C66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C7EE-640C-495E-83C0-6AB6C1BF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FDFF-3008-4C18-97A2-B3AD7DB8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0D4A-97BE-42A3-BE72-61BC1D6F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D312-4C63-4B95-AF9F-E3445685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5797-A9BB-470F-B52D-AD6029B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DDD-A983-4445-B518-E741D120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8168-7823-41DF-A43D-6FF4ABEE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3953-7C88-4BAB-BB67-E3CEEB7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4065-DE0E-4A90-9D60-0B457A08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D47F-D92A-419E-9B44-07673313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BAF9-0C87-4A75-BEC6-D393A0FC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8E3-46BA-4F66-8ABB-224AE25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EBE-2DF5-4F97-9EBE-3630217C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E7C-BB46-45EA-B323-533DDD8F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322-2EB7-4766-A08C-5A5A2CDC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470-A3D8-476E-A4C5-1AF627B4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2B0-6B45-4B8E-B0D3-3A4FF244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0AD-C53E-46FB-9A41-33731D60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4528-1142-476E-9FB2-4BA4762546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81D0-B369-4C36-B074-944BE27D52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258920" y="250020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ім’я. Склад сім’ї.  Українська родина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611280" y="47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Сучасна украї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26280" cy="482112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611280" y="47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Сучасна украї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ewl.com.au/wp-content/uploads/2013/02/iStock_000014337392_Medium-1024x682.jpg"/>
          <p:cNvPicPr/>
          <p:nvPr/>
        </p:nvPicPr>
        <p:blipFill>
          <a:blip r:embed="rId1"/>
          <a:stretch/>
        </p:blipFill>
        <p:spPr>
          <a:xfrm>
            <a:off x="685800" y="1197000"/>
            <a:ext cx="7772400" cy="517680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tarasshevchenko.at.ua/_ph/2/361567896.jpg"/>
          <p:cNvPicPr/>
          <p:nvPr/>
        </p:nvPicPr>
        <p:blipFill>
          <a:blip r:embed="rId1"/>
          <a:srcRect l="3907" t="4653" r="3260" b="3040"/>
          <a:stretch/>
        </p:blipFill>
        <p:spPr>
          <a:xfrm>
            <a:off x="1714680" y="1227240"/>
            <a:ext cx="5676840" cy="468612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sp>
        <p:nvSpPr>
          <p:cNvPr id="86" name="TextBox 1"/>
          <p:cNvSpPr/>
          <p:nvPr/>
        </p:nvSpPr>
        <p:spPr>
          <a:xfrm>
            <a:off x="1714680" y="5991120"/>
            <a:ext cx="567684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Шевченко «Селянська род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58920" y="476280"/>
            <a:ext cx="84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а селя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1"/>
          <p:cNvGrpSpPr/>
          <p:nvPr/>
        </p:nvGrpSpPr>
        <p:grpSpPr>
          <a:xfrm>
            <a:off x="1714680" y="1352520"/>
            <a:ext cx="5715000" cy="5066640"/>
            <a:chOff x="1714680" y="1352520"/>
            <a:chExt cx="5715000" cy="5066640"/>
          </a:xfrm>
        </p:grpSpPr>
        <p:pic>
          <p:nvPicPr>
            <p:cNvPr id="89" name="Picture 2" descr="Сваты картины Пимоненко"/>
            <p:cNvPicPr/>
            <p:nvPr/>
          </p:nvPicPr>
          <p:blipFill>
            <a:blip r:embed="rId1"/>
            <a:stretch/>
          </p:blipFill>
          <p:spPr>
            <a:xfrm>
              <a:off x="1714680" y="1352520"/>
              <a:ext cx="5715000" cy="4524120"/>
            </a:xfrm>
            <a:prstGeom prst="rect">
              <a:avLst/>
            </a:prstGeom>
            <a:ln w="19080">
              <a:solidFill>
                <a:srgbClr val="007fac"/>
              </a:solidFill>
              <a:miter/>
            </a:ln>
          </p:spPr>
        </p:pic>
        <p:sp>
          <p:nvSpPr>
            <p:cNvPr id="90" name="TextBox 1"/>
            <p:cNvSpPr/>
            <p:nvPr/>
          </p:nvSpPr>
          <p:spPr>
            <a:xfrm>
              <a:off x="1714680" y="5959440"/>
              <a:ext cx="5715000" cy="459720"/>
            </a:xfrm>
            <a:prstGeom prst="rect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М. Пимоненко «Свати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3"/>
          <p:cNvSpPr/>
          <p:nvPr/>
        </p:nvSpPr>
        <p:spPr>
          <a:xfrm>
            <a:off x="358920" y="476280"/>
            <a:ext cx="84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а селя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1"/>
          <p:cNvGrpSpPr/>
          <p:nvPr/>
        </p:nvGrpSpPr>
        <p:grpSpPr>
          <a:xfrm>
            <a:off x="1042920" y="1413000"/>
            <a:ext cx="7000920" cy="4934880"/>
            <a:chOff x="1042920" y="1413000"/>
            <a:chExt cx="7000920" cy="4934880"/>
          </a:xfrm>
        </p:grpSpPr>
        <p:pic>
          <p:nvPicPr>
            <p:cNvPr id="93" name="Picture 2" descr="http://upload.wikimedia.org/wikipedia/commons/thumb/e/ea/Mykola_Pymonenko-Sinokis.jpg/1024px-Mykola_Pymonenko-Sinokis.jpg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000920" cy="4396320"/>
            </a:xfrm>
            <a:prstGeom prst="rect">
              <a:avLst/>
            </a:prstGeom>
            <a:ln w="19080">
              <a:solidFill>
                <a:srgbClr val="1f497d"/>
              </a:solidFill>
              <a:miter/>
            </a:ln>
          </p:spPr>
        </p:pic>
        <p:sp>
          <p:nvSpPr>
            <p:cNvPr id="94" name="TextBox 1"/>
            <p:cNvSpPr/>
            <p:nvPr/>
          </p:nvSpPr>
          <p:spPr>
            <a:xfrm>
              <a:off x="1042920" y="5888160"/>
              <a:ext cx="7000920" cy="459720"/>
            </a:xfrm>
            <a:prstGeom prst="rect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М. Пимоненко «Сінокіс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3"/>
          <p:cNvSpPr/>
          <p:nvPr/>
        </p:nvSpPr>
        <p:spPr>
          <a:xfrm>
            <a:off x="358920" y="476280"/>
            <a:ext cx="84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а селя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yy4.fotoplenka.users.photofile.ru/photo/iyy4.fotoplenka/150555964/xlarge/162310240.jpg?"/>
          <p:cNvPicPr/>
          <p:nvPr/>
        </p:nvPicPr>
        <p:blipFill>
          <a:blip r:embed="rId1"/>
          <a:stretch/>
        </p:blipFill>
        <p:spPr>
          <a:xfrm>
            <a:off x="1008000" y="1460520"/>
            <a:ext cx="7128000" cy="470520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sp>
        <p:nvSpPr>
          <p:cNvPr id="97" name="TextBox 3"/>
          <p:cNvSpPr/>
          <p:nvPr/>
        </p:nvSpPr>
        <p:spPr>
          <a:xfrm>
            <a:off x="358920" y="476280"/>
            <a:ext cx="84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а селя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visit-card.com.ua/info/im/5/1.jpg"/>
          <p:cNvPicPr/>
          <p:nvPr/>
        </p:nvPicPr>
        <p:blipFill>
          <a:blip r:embed="rId1"/>
          <a:stretch/>
        </p:blipFill>
        <p:spPr>
          <a:xfrm>
            <a:off x="5070600" y="1482840"/>
            <a:ext cx="3173400" cy="476244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sp>
        <p:nvSpPr>
          <p:cNvPr id="99" name="TextBox 3"/>
          <p:cNvSpPr/>
          <p:nvPr/>
        </p:nvSpPr>
        <p:spPr>
          <a:xfrm>
            <a:off x="358920" y="476280"/>
            <a:ext cx="84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а гостинн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www.puzatahata.com.ua/images/news/for_sayt_1.jpg"/>
          <p:cNvPicPr/>
          <p:nvPr/>
        </p:nvPicPr>
        <p:blipFill>
          <a:blip r:embed="rId2"/>
          <a:srcRect l="0" t="0" r="18588" b="0"/>
          <a:stretch/>
        </p:blipFill>
        <p:spPr>
          <a:xfrm>
            <a:off x="838080" y="1482840"/>
            <a:ext cx="3878280" cy="476244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foodclub.ru/upload/iblock/359/1.jpg"/>
          <p:cNvPicPr/>
          <p:nvPr/>
        </p:nvPicPr>
        <p:blipFill>
          <a:blip r:embed="rId1"/>
          <a:srcRect l="0" t="9555" r="0" b="0"/>
          <a:stretch/>
        </p:blipFill>
        <p:spPr>
          <a:xfrm>
            <a:off x="4789440" y="1341360"/>
            <a:ext cx="3727440" cy="22449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2" name="TextBox 3"/>
          <p:cNvSpPr/>
          <p:nvPr/>
        </p:nvSpPr>
        <p:spPr>
          <a:xfrm>
            <a:off x="1440000" y="47628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і стра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img1.liveinternet.ru/images/attach/b/4/103/968/103968497_2749438_vareniki_1_.jpg"/>
          <p:cNvPicPr/>
          <p:nvPr/>
        </p:nvPicPr>
        <p:blipFill>
          <a:blip r:embed="rId2"/>
          <a:stretch/>
        </p:blipFill>
        <p:spPr>
          <a:xfrm>
            <a:off x="684360" y="3873600"/>
            <a:ext cx="3786120" cy="24829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4" name="Picture 2" descr="http://ssoll.ru/img/R85c.jpg"/>
          <p:cNvPicPr/>
          <p:nvPr/>
        </p:nvPicPr>
        <p:blipFill>
          <a:blip r:embed="rId3"/>
          <a:srcRect l="11626" t="0" r="0" b="0"/>
          <a:stretch/>
        </p:blipFill>
        <p:spPr>
          <a:xfrm>
            <a:off x="684360" y="1341360"/>
            <a:ext cx="3786120" cy="22449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5" name="Picture 4" descr="http://brightwallpapers.com.ua/Uploads/31-3-2013/0ecf0ab9-6b50-464a-b703-ba0022e68d72/thumb2-b9a23582de8cf28fd46a5f7f1ab4bd5c.jpg"/>
          <p:cNvPicPr/>
          <p:nvPr/>
        </p:nvPicPr>
        <p:blipFill>
          <a:blip r:embed="rId4"/>
          <a:srcRect l="3673" t="0" r="2443" b="0"/>
          <a:stretch/>
        </p:blipFill>
        <p:spPr>
          <a:xfrm>
            <a:off x="4789440" y="3873600"/>
            <a:ext cx="3727440" cy="24829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pustunchik.ua/uploads/holiday/cache/d4d55965050e22366555d9e0fd35a79d.jpg"/>
          <p:cNvPicPr/>
          <p:nvPr/>
        </p:nvPicPr>
        <p:blipFill>
          <a:blip r:embed="rId1"/>
          <a:stretch/>
        </p:blipFill>
        <p:spPr>
          <a:xfrm>
            <a:off x="1476360" y="1521000"/>
            <a:ext cx="6191280" cy="46447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7" name="TextBox 3"/>
          <p:cNvSpPr/>
          <p:nvPr/>
        </p:nvSpPr>
        <p:spPr>
          <a:xfrm>
            <a:off x="611280" y="47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ий святковий сті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11280" y="47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ий святковий сті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ic.pics.livejournal.com/terskiykazak/32244818/181070/181070_original.jpg"/>
          <p:cNvPicPr/>
          <p:nvPr/>
        </p:nvPicPr>
        <p:blipFill>
          <a:blip r:embed="rId1"/>
          <a:stretch/>
        </p:blipFill>
        <p:spPr>
          <a:xfrm>
            <a:off x="728640" y="1773360"/>
            <a:ext cx="7686720" cy="413388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Sasha</cp:lastModifiedBy>
  <dcterms:modified xsi:type="dcterms:W3CDTF">2015-01-12T09:32:30Z</dcterms:modified>
  <cp:revision>49</cp:revision>
  <dc:subject/>
  <dc:title>Презентация PowerPoint</dc:title>
</cp:coreProperties>
</file>