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92CE-55C0-4BD1-A78C-0DECC16B9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21A0-C3E2-4F0F-974F-A61905CA6C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6930-EC06-43ED-8F6F-86A245FF1A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1AD2-A6A6-4E9C-9AB4-88773A6BA8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C7FD-3899-4703-A18E-3B39147319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зображення хлопчика переміщується із центру слайда праворуч, а на вільному місці 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являється карт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B2BF-C1A9-47A4-B41E-81D5DCF4F3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першим кліком позитивні риси характеру зафарбовуються зеленим кольором, за другим — негативні риси характеру зафарбовуються черво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994-44CA-4640-80FC-8CFD66E920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28B6-BA24-40A7-8A5C-ACC66DE454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5185-BBF9-45E8-951A-68D7B87013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926B-8811-485A-942F-C354942ECE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D25-0BAB-4351-AE6F-2A6BA289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151-63AA-45EF-BDF1-9786FD75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669-699B-4CBA-B621-8BC726A4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AD3-A173-4357-91CA-B7FC71FB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92E-82EA-410E-91B2-C129C996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69BF-E208-45E0-B528-1678F956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38D6-9739-481D-8E32-3EF40A6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8C17-5498-4697-917F-FC91D44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88C1-3E53-4297-A43E-8D0D175C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0B6F-5CD4-4C9A-8767-4381E263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C203-6797-4D28-A015-FA55B924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532-8A78-4558-9A65-6F6E280C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ADDF-A82A-44D1-BF68-AC56B332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036E-4995-4F0B-950C-3F8C46A1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BAF9-6618-4D8F-923C-739EEE09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759E-BAE6-49C9-8DE6-1B9FA8D5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D1AF-A498-4531-BAEA-8632FDED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CDE-35CB-49AF-8827-B9718A3A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6CE-75A4-470A-9F3A-7C07E6AB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801-6F8D-45F9-9A1F-C53E7866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7DC-1593-437B-8D23-7E0FD6CE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D40-E9ED-44A4-9962-911FBE8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41A-2A56-4602-9F24-5FA3C156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5C7-9BEE-4049-ACB2-0CD6BF19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8F3E-C244-41D2-80B8-BF82BE1CA9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669-96FE-4216-B0F5-820DE3E1FE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16000" y="2506680"/>
            <a:ext cx="87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Людське „Я“. 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Формування особистості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8"/>
          <p:cNvSpPr/>
          <p:nvPr/>
        </p:nvSpPr>
        <p:spPr>
          <a:xfrm>
            <a:off x="4842720" y="21286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3290400" y="428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ац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1118160" y="525924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кра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15640" y="325296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743040" y="2060640"/>
            <a:ext cx="62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У  праці — краса люди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4827960" y="32227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8"/>
          <p:cNvSpPr/>
          <p:nvPr/>
        </p:nvSpPr>
        <p:spPr>
          <a:xfrm>
            <a:off x="4263120" y="18478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908640" y="27828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0"/>
          <p:cNvSpPr/>
          <p:nvPr/>
        </p:nvSpPr>
        <p:spPr>
          <a:xfrm>
            <a:off x="3554280" y="508464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кра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1"/>
          <p:cNvSpPr/>
          <p:nvPr/>
        </p:nvSpPr>
        <p:spPr>
          <a:xfrm>
            <a:off x="3349080" y="366696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4"/>
          <p:cNvSpPr/>
          <p:nvPr/>
        </p:nvSpPr>
        <p:spPr>
          <a:xfrm>
            <a:off x="743040" y="2060640"/>
            <a:ext cx="81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Краса людини — у красі характе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1270440" y="501156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крас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3"/>
          <p:cNvSpPr/>
          <p:nvPr/>
        </p:nvSpPr>
        <p:spPr>
          <a:xfrm>
            <a:off x="7125840" y="18478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8"/>
          <p:cNvSpPr/>
          <p:nvPr/>
        </p:nvSpPr>
        <p:spPr>
          <a:xfrm>
            <a:off x="4919760" y="56419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2576520" y="443880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икраша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0"/>
          <p:cNvSpPr/>
          <p:nvPr/>
        </p:nvSpPr>
        <p:spPr>
          <a:xfrm>
            <a:off x="4135680" y="244152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роз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1"/>
          <p:cNvSpPr/>
          <p:nvPr/>
        </p:nvSpPr>
        <p:spPr>
          <a:xfrm>
            <a:off x="1798920" y="35575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в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4"/>
          <p:cNvSpPr/>
          <p:nvPr/>
        </p:nvSpPr>
        <p:spPr>
          <a:xfrm>
            <a:off x="743040" y="206064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Не врода прикрашає, а розу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6"/>
          <p:cNvSpPr/>
          <p:nvPr/>
        </p:nvSpPr>
        <p:spPr>
          <a:xfrm>
            <a:off x="1574640" y="1776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8"/>
          <p:cNvSpPr/>
          <p:nvPr/>
        </p:nvSpPr>
        <p:spPr>
          <a:xfrm>
            <a:off x="1883520" y="1414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602800" y="5533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икраша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0"/>
          <p:cNvSpPr/>
          <p:nvPr/>
        </p:nvSpPr>
        <p:spPr>
          <a:xfrm>
            <a:off x="1883160" y="308772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зем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1"/>
          <p:cNvSpPr/>
          <p:nvPr/>
        </p:nvSpPr>
        <p:spPr>
          <a:xfrm>
            <a:off x="1567800" y="448632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сон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4"/>
          <p:cNvSpPr/>
          <p:nvPr/>
        </p:nvSpPr>
        <p:spPr>
          <a:xfrm>
            <a:off x="743040" y="2060640"/>
            <a:ext cx="78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Землю прикрашає сонце, </a:t>
            </a:r>
            <a:br>
              <a:rPr sz="3600"/>
            </a:b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а людину — прац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16"/>
          <p:cNvSpPr/>
          <p:nvPr/>
        </p:nvSpPr>
        <p:spPr>
          <a:xfrm>
            <a:off x="3889800" y="40482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ац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2"/>
          <p:cNvSpPr/>
          <p:nvPr/>
        </p:nvSpPr>
        <p:spPr>
          <a:xfrm>
            <a:off x="4306320" y="276372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лю.д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5534280" y="15238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Хто 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3728880" y="1793880"/>
            <a:ext cx="1686240" cy="4371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1835280" y="3646440"/>
            <a:ext cx="1541160" cy="244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152360" y="1989000"/>
            <a:ext cx="1047960" cy="165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4"/>
          <a:stretch/>
        </p:blipFill>
        <p:spPr>
          <a:xfrm>
            <a:off x="5999040" y="4376880"/>
            <a:ext cx="800280" cy="126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6799320" y="1793880"/>
            <a:ext cx="1047600" cy="16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Хто я в родині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3728880" y="1793880"/>
            <a:ext cx="1686240" cy="437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F:\ПРЕЗЕНТАЦИИ\Н_Началка\Плакаты\Картинки\1554439.jpg"/>
          <p:cNvPicPr/>
          <p:nvPr/>
        </p:nvPicPr>
        <p:blipFill>
          <a:blip r:embed="rId2"/>
          <a:stretch/>
        </p:blipFill>
        <p:spPr>
          <a:xfrm>
            <a:off x="5722920" y="1452600"/>
            <a:ext cx="2654280" cy="204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F:\ПРЕЗЕНТАЦИИ\Н_Началка\Плакаты\Картинки\b656b33ef20f194129676d747ae3358a.jpg"/>
          <p:cNvPicPr/>
          <p:nvPr/>
        </p:nvPicPr>
        <p:blipFill>
          <a:blip r:embed="rId3"/>
          <a:stretch/>
        </p:blipFill>
        <p:spPr>
          <a:xfrm>
            <a:off x="538200" y="1452600"/>
            <a:ext cx="2771640" cy="204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F:\ПРЕЗЕНТАЦИИ\Н_Началка\Плакаты\Картинки\raduga-pict.narod.ru213.jpg"/>
          <p:cNvPicPr/>
          <p:nvPr/>
        </p:nvPicPr>
        <p:blipFill>
          <a:blip r:embed="rId4"/>
          <a:stretch/>
        </p:blipFill>
        <p:spPr>
          <a:xfrm>
            <a:off x="538200" y="4052880"/>
            <a:ext cx="277164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F:\ПРЕЗЕНТАЦИИ\Н_Началка\Плакаты\Картинки\o-COUPLE-AT-HOUSE-SHOWING-facebook.jpg"/>
          <p:cNvPicPr/>
          <p:nvPr/>
        </p:nvPicPr>
        <p:blipFill>
          <a:blip r:embed="rId5"/>
          <a:srcRect l="0" t="0" r="0" b="-363"/>
          <a:stretch/>
        </p:blipFill>
        <p:spPr>
          <a:xfrm>
            <a:off x="5722920" y="4052880"/>
            <a:ext cx="2654280" cy="2189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538200" y="3398760"/>
            <a:ext cx="277164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538200" y="5934240"/>
            <a:ext cx="277164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б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722920" y="5934240"/>
            <a:ext cx="265428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лемі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722920" y="3398760"/>
            <a:ext cx="265428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он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оя поведін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3728880" y="1793880"/>
            <a:ext cx="1686240" cy="437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F:\ПРЕЗЕНТАЦИИ\Н_Началка\Плакаты\Картинки\emocii.jpg"/>
          <p:cNvPicPr/>
          <p:nvPr/>
        </p:nvPicPr>
        <p:blipFill>
          <a:blip r:embed="rId2"/>
          <a:stretch/>
        </p:blipFill>
        <p:spPr>
          <a:xfrm>
            <a:off x="1440000" y="2060640"/>
            <a:ext cx="1647720" cy="2520720"/>
          </a:xfrm>
          <a:prstGeom prst="rect">
            <a:avLst/>
          </a:prstGeom>
          <a:ln w="38160">
            <a:solidFill>
              <a:srgbClr val="007fac"/>
            </a:solidFill>
            <a:miter/>
          </a:ln>
        </p:spPr>
      </p:pic>
      <p:pic>
        <p:nvPicPr>
          <p:cNvPr id="111" name="Picture 6" descr="F:\ПРЕЗЕНТАЦИИ\Н_Началка\Плакаты\Картинки\emocii.jpg"/>
          <p:cNvPicPr/>
          <p:nvPr/>
        </p:nvPicPr>
        <p:blipFill>
          <a:blip r:embed="rId3"/>
          <a:stretch/>
        </p:blipFill>
        <p:spPr>
          <a:xfrm>
            <a:off x="6075360" y="2046240"/>
            <a:ext cx="1649520" cy="2497320"/>
          </a:xfrm>
          <a:prstGeom prst="rect">
            <a:avLst/>
          </a:prstGeom>
          <a:ln w="38160">
            <a:solidFill>
              <a:srgbClr val="007fac"/>
            </a:solidFill>
            <a:miter/>
          </a:ln>
        </p:spPr>
      </p:pic>
      <p:sp>
        <p:nvSpPr>
          <p:cNvPr id="112" name="TextBox 9"/>
          <p:cNvSpPr/>
          <p:nvPr/>
        </p:nvSpPr>
        <p:spPr>
          <a:xfrm>
            <a:off x="936720" y="5013360"/>
            <a:ext cx="265428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слухня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572080" y="5013360"/>
            <a:ext cx="265428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неслухня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оя зовнішні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3728880" y="1793880"/>
            <a:ext cx="1686240" cy="437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www.sorokopud.ru/pict/photo/20120500_sch1205/DSC00787c34.jpg"/>
          <p:cNvPicPr/>
          <p:nvPr/>
        </p:nvPicPr>
        <p:blipFill>
          <a:blip r:embed="rId2"/>
          <a:stretch/>
        </p:blipFill>
        <p:spPr>
          <a:xfrm>
            <a:off x="684360" y="1989000"/>
            <a:ext cx="5322600" cy="389412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33073 -0.00671 E">
                                      <p:cBhvr>
                                        <p:cTn id="6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ій харак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773760" y="1762200"/>
            <a:ext cx="1685880" cy="43718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691560" y="24354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мі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695520" y="49417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ацьовит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920320" y="410544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ввіч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5020920" y="15987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чуй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5016240" y="41054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щедр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693000" y="570384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кром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5021640" y="32702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чес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2919600" y="2435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відкрит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1"/>
          <p:cNvSpPr/>
          <p:nvPr/>
        </p:nvSpPr>
        <p:spPr>
          <a:xfrm>
            <a:off x="5017680" y="4941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нахаб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2"/>
          <p:cNvSpPr/>
          <p:nvPr/>
        </p:nvSpPr>
        <p:spPr>
          <a:xfrm>
            <a:off x="692640" y="410544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жадіб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3"/>
          <p:cNvSpPr/>
          <p:nvPr/>
        </p:nvSpPr>
        <p:spPr>
          <a:xfrm>
            <a:off x="691920" y="15987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амкнут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2916720" y="49417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рех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5018760" y="243540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лі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2917080" y="32702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айдуж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2917440" y="159876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оягуз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690120" y="32702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груб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250920" y="4762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ої інтереси та захопл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773760" y="1762200"/>
            <a:ext cx="1685880" cy="43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teleschool.ru/wp-content/uploads/2014/06/5_krujok.jpg"/>
          <p:cNvPicPr/>
          <p:nvPr/>
        </p:nvPicPr>
        <p:blipFill>
          <a:blip r:embed="rId2"/>
          <a:stretch/>
        </p:blipFill>
        <p:spPr>
          <a:xfrm>
            <a:off x="725400" y="1612800"/>
            <a:ext cx="2886120" cy="217656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38" name="Picture 6" descr="http://cs410617.vk.me/v410617465/478f/crOh3h7VAkw.jpg"/>
          <p:cNvPicPr/>
          <p:nvPr/>
        </p:nvPicPr>
        <p:blipFill>
          <a:blip r:embed="rId3"/>
          <a:srcRect l="0" t="-99" r="0" b="0"/>
          <a:stretch/>
        </p:blipFill>
        <p:spPr>
          <a:xfrm>
            <a:off x="4006800" y="1612800"/>
            <a:ext cx="2278080" cy="217656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39" name="Picture 10" descr="http://www.drovoseki.ru/sites/default/files/r_0004.jpg"/>
          <p:cNvPicPr/>
          <p:nvPr/>
        </p:nvPicPr>
        <p:blipFill>
          <a:blip r:embed="rId4"/>
          <a:stretch/>
        </p:blipFill>
        <p:spPr>
          <a:xfrm>
            <a:off x="725400" y="4124160"/>
            <a:ext cx="2886120" cy="19306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0" name="Picture 12" descr="http://www.pzpn.pl/public/system/images/articles/822/1013-zoom.jpg"/>
          <p:cNvPicPr/>
          <p:nvPr/>
        </p:nvPicPr>
        <p:blipFill>
          <a:blip r:embed="rId5"/>
          <a:stretch/>
        </p:blipFill>
        <p:spPr>
          <a:xfrm>
            <a:off x="4008600" y="4124160"/>
            <a:ext cx="2278080" cy="19306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250920" y="4762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ої інтереси та захопл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shkolnik-forma.ru/wp-content/uploads/2014/04/%D0%A8%D0%A4-486.jpg"/>
          <p:cNvPicPr/>
          <p:nvPr/>
        </p:nvPicPr>
        <p:blipFill>
          <a:blip r:embed="rId1"/>
          <a:stretch/>
        </p:blipFill>
        <p:spPr>
          <a:xfrm>
            <a:off x="5940360" y="1844640"/>
            <a:ext cx="3160800" cy="4222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www.bekasovschool.com.ua/images/klass1.jpg"/>
          <p:cNvPicPr/>
          <p:nvPr/>
        </p:nvPicPr>
        <p:blipFill>
          <a:blip r:embed="rId2"/>
          <a:stretch/>
        </p:blipFill>
        <p:spPr>
          <a:xfrm>
            <a:off x="611280" y="1698480"/>
            <a:ext cx="2663640" cy="187164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4" name="Picture 10" descr="http://image.etov.com.ua/storage/640x640/1/0/8/d/108df5ced24ef879bcd43b6c8887ccbe.jpg"/>
          <p:cNvPicPr/>
          <p:nvPr/>
        </p:nvPicPr>
        <p:blipFill>
          <a:blip r:embed="rId3"/>
          <a:stretch/>
        </p:blipFill>
        <p:spPr>
          <a:xfrm>
            <a:off x="3638520" y="3959280"/>
            <a:ext cx="2816280" cy="20620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5" name="Picture 12" descr="http://artwork96.ru/static/img/0000/0001/3317/13317291.pib1paum9l.jpg?1"/>
          <p:cNvPicPr/>
          <p:nvPr/>
        </p:nvPicPr>
        <p:blipFill>
          <a:blip r:embed="rId4"/>
          <a:stretch/>
        </p:blipFill>
        <p:spPr>
          <a:xfrm>
            <a:off x="3638520" y="1698480"/>
            <a:ext cx="2816280" cy="187164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6" name="Picture 16" descr="http://cristofori.asia/ver4/wp-content/uploads/2012/06/course_guitar_classical.jpg"/>
          <p:cNvPicPr/>
          <p:nvPr/>
        </p:nvPicPr>
        <p:blipFill>
          <a:blip r:embed="rId5"/>
          <a:stretch/>
        </p:blipFill>
        <p:spPr>
          <a:xfrm>
            <a:off x="633240" y="3957480"/>
            <a:ext cx="2664000" cy="20638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50920" y="47628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7cc"/>
                </a:solidFill>
                <a:latin typeface="Arial"/>
                <a:ea typeface="Arial"/>
              </a:rPr>
              <a:t>Моє ставлення </a:t>
            </a:r>
            <a:br>
              <a:rPr sz="4000"/>
            </a:br>
            <a:r>
              <a:rPr b="1" lang="ru-RU" sz="4000" spc="-1" strike="noStrike">
                <a:solidFill>
                  <a:srgbClr val="0097cc"/>
                </a:solidFill>
                <a:latin typeface="Arial"/>
                <a:ea typeface="Arial"/>
              </a:rPr>
              <a:t>до інши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s://ubb.org.ua/media/projects/2013/04/18/report/69130a1a0454b6ba174dfe1b8da3b34bc92756bc.jpg"/>
          <p:cNvPicPr/>
          <p:nvPr/>
        </p:nvPicPr>
        <p:blipFill>
          <a:blip r:embed="rId1"/>
          <a:stretch/>
        </p:blipFill>
        <p:spPr>
          <a:xfrm>
            <a:off x="676440" y="2081160"/>
            <a:ext cx="4128840" cy="38656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9" name="Picture 4" descr="http://www.mediaport.ua/images/119905_700.jpg"/>
          <p:cNvPicPr/>
          <p:nvPr/>
        </p:nvPicPr>
        <p:blipFill>
          <a:blip r:embed="rId2"/>
          <a:stretch/>
        </p:blipFill>
        <p:spPr>
          <a:xfrm>
            <a:off x="5211720" y="2081160"/>
            <a:ext cx="3247920" cy="38656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Alex</cp:lastModifiedBy>
  <dcterms:modified xsi:type="dcterms:W3CDTF">2015-07-14T13:30:16Z</dcterms:modified>
  <cp:revision>33</cp:revision>
  <dc:subject/>
  <dc:title>Презентация PowerPoint</dc:title>
</cp:coreProperties>
</file>