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55A-B029-4CCB-A294-B372E4F0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E0D-035E-42C6-800E-848AAE7A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47F-DD51-4705-8675-827A83D7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EA7-61F4-426F-AA2D-F006BD57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62FE-5E1F-4BB8-A251-DECA732F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A754-B04F-493E-BB98-37F0E8BD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08F3-2A83-488C-A6F2-A8F106CB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8E60-D5B7-45E4-99CB-C906E596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F007-EB2B-4FAD-97F8-C0D242B4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A197-72FD-4AAA-9C6F-4BC669A6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DCBE-D833-44AD-BE71-EA89D299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635-1017-4295-B977-B0CB7DB6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20D9-6B92-458B-84C5-BAE86203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89C8-54DE-4DBD-9099-F92D69E3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DE25-01DD-4F32-8560-E3E1072D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8EFC-E625-4B06-A828-F416D44F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E621-EB3A-497D-8B7B-3EF2070C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7C6-9EAD-41B8-BC68-862E3025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A460-4580-4C35-9B9F-64F26302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5CBD-B48A-43D7-A2A1-901FBF00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E51A-DD28-4A51-8ED3-6B989153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90A-8C80-4081-B109-C9E97E26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4BF-9286-45D7-B9D2-6834B46F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D57-EFAB-40F6-9A3D-148C4377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027F-1EA2-456E-8621-0BDA8AD709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0EE0-ECE2-461F-BD0C-852FD89394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216000" y="1844640"/>
            <a:ext cx="8712000" cy="28796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150920" y="2565360"/>
            <a:ext cx="68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лаве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тні постаті Україн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4237200" y="1449360"/>
            <a:ext cx="4547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м, будучи вже підлітком, зустрівся Т. Шевченко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 художником І. Сошенком, який разом із російським поетом В. Жуковським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 художником К. Брюловим допоміг хлопцеві стати вільним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. Шевченко почав навчатися в Російській академії мистецтв, виявивши неабиякі здібності до малюва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Тарас Шевченко (1814–186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namu.kiev.ua/assets/images/collection/1238426790big.jpg"/>
          <p:cNvPicPr/>
          <p:nvPr/>
        </p:nvPicPr>
        <p:blipFill>
          <a:blip r:embed="rId1"/>
          <a:srcRect l="20539" t="0" r="9339" b="0"/>
          <a:stretch/>
        </p:blipFill>
        <p:spPr>
          <a:xfrm>
            <a:off x="539640" y="1446120"/>
            <a:ext cx="3380040" cy="486252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4237200" y="1449360"/>
            <a:ext cx="454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цей же час він починає писати вірші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які йому згодом довелося побувати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й на засланні, й послужити солда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мер поет 10 березня 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861 року. Похований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Україні, на Чернечій горі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іля Кан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Тарас Шевченко (1814–186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www.expedition.vn.ua/images/stories/kanev2009/kanev1024/kanev09133.jpg"/>
          <p:cNvPicPr/>
          <p:nvPr/>
        </p:nvPicPr>
        <p:blipFill>
          <a:blip r:embed="rId1"/>
          <a:srcRect l="23859" t="0" r="22094" b="0"/>
          <a:stretch/>
        </p:blipFill>
        <p:spPr>
          <a:xfrm>
            <a:off x="611280" y="1449360"/>
            <a:ext cx="3450960" cy="478800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468360" y="4441680"/>
            <a:ext cx="81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кадемік, конструктор перших штучних супутників Землі та космічних кораблів. Під його керівництвом запущено першу міжконтинентальну балістичну ракету, перший штучний супутник Землі, відбувся перший політ людини в космос та вихід людини у відкритий косм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Сергій Корольов (1906–196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Группа 1"/>
          <p:cNvGrpSpPr/>
          <p:nvPr/>
        </p:nvGrpSpPr>
        <p:grpSpPr>
          <a:xfrm>
            <a:off x="495360" y="1341360"/>
            <a:ext cx="8109000" cy="2908440"/>
            <a:chOff x="495360" y="1341360"/>
            <a:chExt cx="8109000" cy="2908440"/>
          </a:xfrm>
        </p:grpSpPr>
        <p:pic>
          <p:nvPicPr>
            <p:cNvPr id="123" name="Picture 2" descr="http://www.rg.ru/i/gallery/92544103/954c2d73.jpg"/>
            <p:cNvPicPr/>
            <p:nvPr/>
          </p:nvPicPr>
          <p:blipFill>
            <a:blip r:embed="rId1"/>
            <a:srcRect l="0" t="0" r="0" b="13176"/>
            <a:stretch/>
          </p:blipFill>
          <p:spPr>
            <a:xfrm>
              <a:off x="6092280" y="1341360"/>
              <a:ext cx="2512080" cy="2908080"/>
            </a:xfrm>
            <a:prstGeom prst="rect">
              <a:avLst/>
            </a:prstGeom>
            <a:ln w="19080">
              <a:solidFill>
                <a:srgbClr val="4f81bd"/>
              </a:solidFill>
              <a:miter/>
            </a:ln>
          </p:spPr>
        </p:pic>
        <p:pic>
          <p:nvPicPr>
            <p:cNvPr id="124" name="Picture 4" descr="http://www.rg.ru/i/gallery/9484f378/ad723b14.jpg"/>
            <p:cNvPicPr/>
            <p:nvPr/>
          </p:nvPicPr>
          <p:blipFill>
            <a:blip r:embed="rId2"/>
            <a:srcRect l="16151" t="0" r="0" b="0"/>
            <a:stretch/>
          </p:blipFill>
          <p:spPr>
            <a:xfrm>
              <a:off x="495360" y="1341360"/>
              <a:ext cx="3209400" cy="2908440"/>
            </a:xfrm>
            <a:prstGeom prst="rect">
              <a:avLst/>
            </a:prstGeom>
            <a:ln w="19080">
              <a:solidFill>
                <a:srgbClr val="4f81bd"/>
              </a:solidFill>
              <a:miter/>
            </a:ln>
          </p:spPr>
        </p:pic>
        <p:pic>
          <p:nvPicPr>
            <p:cNvPr id="125" name="Picture 6" descr="http://shipachev.com/wp-content/uploads/2011/04/vostok1-launch_1-502x580-1.jpg"/>
            <p:cNvPicPr/>
            <p:nvPr/>
          </p:nvPicPr>
          <p:blipFill>
            <a:blip r:embed="rId3"/>
            <a:srcRect l="10616" t="0" r="6174" b="0"/>
            <a:stretch/>
          </p:blipFill>
          <p:spPr>
            <a:xfrm>
              <a:off x="3851280" y="1341360"/>
              <a:ext cx="2094480" cy="2908080"/>
            </a:xfrm>
            <a:prstGeom prst="rect">
              <a:avLst/>
            </a:prstGeom>
            <a:ln w="19080">
              <a:solidFill>
                <a:srgbClr val="4f81bd"/>
              </a:solidFill>
              <a:miter/>
            </a:ln>
          </p:spPr>
        </p:pic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544680" y="1378080"/>
            <a:ext cx="4674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авжнє і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: Лариса Петрівна Косач-Квітка — українська письменниця, перекладач, культурний діяч. Писала в найрізноманітніших жанрах лірики, епосу і драми. Також займалася фольклористичною діяльніст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220 народних мелодій записано з її голосу) і брала активну участь в українському національному рус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Леся Українка (1871–19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://shepetivka-sda.ucoz.ua/_pu/12/80518262.png"/>
          <p:cNvPicPr/>
          <p:nvPr/>
        </p:nvPicPr>
        <p:blipFill>
          <a:blip r:embed="rId1"/>
          <a:srcRect l="4718" t="0" r="6750" b="0"/>
          <a:stretch/>
        </p:blipFill>
        <p:spPr>
          <a:xfrm>
            <a:off x="5219640" y="1382760"/>
            <a:ext cx="3441600" cy="471024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4216320" y="1378080"/>
            <a:ext cx="453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країнський письменник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ет, публіцист, перекладач, вчений, громадський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 політичний діяч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ктор філософії (1893 р.), дійсний член Наукового товариства ім. Т. Г. Шевченка (1899 р.), почесний доктор Харківського університету (1906 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Іван Франко (1856–19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://i0.wp.com/photo-lviv.in.ua/wp-content/uploads/2014/10/franko.jpg"/>
          <p:cNvPicPr/>
          <p:nvPr/>
        </p:nvPicPr>
        <p:blipFill>
          <a:blip r:embed="rId1"/>
          <a:stretch/>
        </p:blipFill>
        <p:spPr>
          <a:xfrm>
            <a:off x="544680" y="1378080"/>
            <a:ext cx="3450960" cy="494028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539640" y="1378080"/>
            <a:ext cx="435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фесор історії, організатор української науки, політичний діяч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 публіцист. Автор понад 2000 наукових прац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Михайло Грушевський (1866–193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www.m-hrushevsky.name/files/MHr/portraits/1910.jpg"/>
          <p:cNvPicPr/>
          <p:nvPr/>
        </p:nvPicPr>
        <p:blipFill>
          <a:blip r:embed="rId1"/>
          <a:stretch/>
        </p:blipFill>
        <p:spPr>
          <a:xfrm>
            <a:off x="5076720" y="1378080"/>
            <a:ext cx="3510000" cy="497196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  <p:pic>
        <p:nvPicPr>
          <p:cNvPr id="135" name="Picture 6" descr="http://toloka.hurtom.com/photos/10091520250546494_f0_0.jpg"/>
          <p:cNvPicPr/>
          <p:nvPr/>
        </p:nvPicPr>
        <p:blipFill>
          <a:blip r:embed="rId2"/>
          <a:stretch/>
        </p:blipFill>
        <p:spPr>
          <a:xfrm rot="375000">
            <a:off x="2485800" y="3478320"/>
            <a:ext cx="1941480" cy="25686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136" name="Picture 8" descr="http://toloka.hurtom.com/photos/120820104145216032_f0_0.jpg"/>
          <p:cNvPicPr/>
          <p:nvPr/>
        </p:nvPicPr>
        <p:blipFill>
          <a:blip r:embed="rId3"/>
          <a:stretch/>
        </p:blipFill>
        <p:spPr>
          <a:xfrm rot="21158400">
            <a:off x="828360" y="3668760"/>
            <a:ext cx="1712880" cy="26096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4859280" y="1484280"/>
            <a:ext cx="3900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исьменник, драматург, поет, критик, публіцист українського походження. Микола Васильович Гоголь народився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0 березня (1 квітня за новим стилем) 1809 року в містечку Великі Сорочинці Полтавської губерн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Микола Гоголь  (18</a:t>
            </a:r>
            <a:r>
              <a:rPr b="1" lang="en-US" sz="3200" spc="-1" strike="noStrike">
                <a:solidFill>
                  <a:srgbClr val="0097cc"/>
                </a:solidFill>
                <a:latin typeface="Arial"/>
              </a:rPr>
              <a:t>09</a:t>
            </a: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–18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://files.school-collection.edu.ru/dlrstore/e290963b-5aaa-4be9-9428-a873186acf68/%5bLI6RK_8-01%5d_%5bIL_01%5d-k.jpg"/>
          <p:cNvPicPr/>
          <p:nvPr/>
        </p:nvPicPr>
        <p:blipFill>
          <a:blip r:embed="rId1"/>
          <a:stretch/>
        </p:blipFill>
        <p:spPr>
          <a:xfrm>
            <a:off x="611280" y="1484280"/>
            <a:ext cx="3994200" cy="471960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755640" y="50371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іна Костенко — автор багатьох віршів, поем, публіцистичних творів. Значну кількість своїх віршів вона присвятила ді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7cc"/>
                </a:solidFill>
                <a:latin typeface="Arial"/>
              </a:rPr>
              <a:t>Ліна Костенко  (нар. 1930 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http://upload.wikimedia.org/wikipedia/uk/e/eb/%D0%9A%D0%BE%D1%81%D1%82%D0%B5%D0%BD%D0%BA%D0%BE_%D0%9B.jpg"/>
          <p:cNvPicPr/>
          <p:nvPr/>
        </p:nvPicPr>
        <p:blipFill>
          <a:blip r:embed="rId1"/>
          <a:stretch/>
        </p:blipFill>
        <p:spPr>
          <a:xfrm>
            <a:off x="1098720" y="1430280"/>
            <a:ext cx="2071440" cy="324000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  <p:pic>
        <p:nvPicPr>
          <p:cNvPr id="143" name="Picture 12" descr="http://gdb.rferl.org/7A69FF05-E668-4101-9E4E-7A45CC8D7F5D_mw1024_s_n.jpg"/>
          <p:cNvPicPr/>
          <p:nvPr/>
        </p:nvPicPr>
        <p:blipFill>
          <a:blip r:embed="rId2"/>
          <a:stretch/>
        </p:blipFill>
        <p:spPr>
          <a:xfrm>
            <a:off x="3637080" y="1430280"/>
            <a:ext cx="4319640" cy="324000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611280" y="5013360"/>
            <a:ext cx="81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Його особливі заслуги — хірургічне лікування захворювань серця, легень та досягнення в галузі моделювання психічних функцій головного моз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Микола Амосов (1913–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http://medblog.in.ua/wp-content/uploads/2013/03/amosov2.jpg"/>
          <p:cNvPicPr/>
          <p:nvPr/>
        </p:nvPicPr>
        <p:blipFill>
          <a:blip r:embed="rId1"/>
          <a:stretch/>
        </p:blipFill>
        <p:spPr>
          <a:xfrm>
            <a:off x="611280" y="1405080"/>
            <a:ext cx="5182920" cy="344952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  <p:pic>
        <p:nvPicPr>
          <p:cNvPr id="88" name="Picture 8" descr="http://procalendar.ru/img/177PT2.jpg"/>
          <p:cNvPicPr/>
          <p:nvPr/>
        </p:nvPicPr>
        <p:blipFill>
          <a:blip r:embed="rId2"/>
          <a:srcRect l="0" t="0" r="0" b="8910"/>
          <a:stretch/>
        </p:blipFill>
        <p:spPr>
          <a:xfrm>
            <a:off x="6084720" y="1405080"/>
            <a:ext cx="2374920" cy="344952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574560" y="4797360"/>
            <a:ext cx="81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дяки йому Київська Русь перетворилася на могутню європейську державу. За часів його правління було укладено Правду Ярослава (найдавнішу частину законів руського права — Руської Правд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Ярослав Мудрий (бл. 983–10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about-ua.pp.ua/wp-content/uploads/2014/06/%D0%AF%D1%80%D0%BE%D1%81%D0%BB%D0%B0%D0%B2-%D0%9C%D1%83%D0%B4%D1%80%D0%B8%D0%B9.jpg"/>
          <p:cNvPicPr/>
          <p:nvPr/>
        </p:nvPicPr>
        <p:blipFill>
          <a:blip r:embed="rId1"/>
          <a:stretch/>
        </p:blipFill>
        <p:spPr>
          <a:xfrm>
            <a:off x="611280" y="1378080"/>
            <a:ext cx="2706480" cy="324000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  <p:pic>
        <p:nvPicPr>
          <p:cNvPr id="92" name="Picture 4" descr="http://www.epochtimes.com.ua/upload/medialibrary/3db/3db24e28e1aab7cbaf6dadb9f7f4261a.jpeg"/>
          <p:cNvPicPr/>
          <p:nvPr/>
        </p:nvPicPr>
        <p:blipFill>
          <a:blip r:embed="rId2"/>
          <a:srcRect l="9802" t="4549" r="7190" b="8068"/>
          <a:stretch/>
        </p:blipFill>
        <p:spPr>
          <a:xfrm>
            <a:off x="6588000" y="1378080"/>
            <a:ext cx="1994040" cy="324000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  <p:pic>
        <p:nvPicPr>
          <p:cNvPr id="93" name="Picture 6" descr="http://www.mykiev.info/uploads/page/page_pic/66/pamyatnik-yaroslavu-mudromu_1.jpg"/>
          <p:cNvPicPr/>
          <p:nvPr/>
        </p:nvPicPr>
        <p:blipFill>
          <a:blip r:embed="rId3"/>
          <a:srcRect l="20714" t="0" r="18609" b="0"/>
          <a:stretch/>
        </p:blipFill>
        <p:spPr>
          <a:xfrm>
            <a:off x="3478320" y="1378080"/>
            <a:ext cx="2949480" cy="324000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574560" y="508464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служений тренер СРСР (1975). Герой України (посмертно). Відомий завдяки своїй роботі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иївському «Динамо», збірній СРСР і Украї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Валерій Лобановський (1939–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focus.ua/files/images/0/-94870.jpg"/>
          <p:cNvPicPr/>
          <p:nvPr/>
        </p:nvPicPr>
        <p:blipFill>
          <a:blip r:embed="rId1"/>
          <a:srcRect l="50004" t="0" r="0" b="0"/>
          <a:stretch/>
        </p:blipFill>
        <p:spPr>
          <a:xfrm>
            <a:off x="574560" y="1449360"/>
            <a:ext cx="2500560" cy="323856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  <p:pic>
        <p:nvPicPr>
          <p:cNvPr id="97" name="Picture 4" descr="http://www.litopys.com.ua/upload/medialibrary/ba8/ba89ba0be42651766962e83e66ad84f6.jpg"/>
          <p:cNvPicPr/>
          <p:nvPr/>
        </p:nvPicPr>
        <p:blipFill>
          <a:blip r:embed="rId2"/>
          <a:stretch/>
        </p:blipFill>
        <p:spPr>
          <a:xfrm>
            <a:off x="3436920" y="1449360"/>
            <a:ext cx="2435400" cy="323856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  <p:pic>
        <p:nvPicPr>
          <p:cNvPr id="98" name="Picture 6" descr="http://telegraf.com.ua/files/2013/12/lobanovsky.jpg"/>
          <p:cNvPicPr/>
          <p:nvPr/>
        </p:nvPicPr>
        <p:blipFill>
          <a:blip r:embed="rId3"/>
          <a:stretch/>
        </p:blipFill>
        <p:spPr>
          <a:xfrm>
            <a:off x="6234120" y="1449360"/>
            <a:ext cx="2298600" cy="324000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574560" y="1449360"/>
            <a:ext cx="407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ший із козацьких ватажків, якому офіційно було надано титул гетьм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магався розбудувати незалежну українську держа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Богдан Хмельницький (1595–165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http://getmanat.org/wp-content/uploads/2014/10/09054464.jpg"/>
          <p:cNvPicPr/>
          <p:nvPr/>
        </p:nvPicPr>
        <p:blipFill>
          <a:blip r:embed="rId1"/>
          <a:stretch/>
        </p:blipFill>
        <p:spPr>
          <a:xfrm>
            <a:off x="4932360" y="1413000"/>
            <a:ext cx="3527280" cy="472752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574560" y="1449360"/>
            <a:ext cx="4079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олив велику національно-визвольну революцію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ворив та сформува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зацько-Гетьманську Державу —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ійсько Запорозь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Богдан Хмельницький (1595–165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upload.wikimedia.org/wikipedia/commons/5/53/Berest1.jpg"/>
          <p:cNvPicPr/>
          <p:nvPr/>
        </p:nvPicPr>
        <p:blipFill>
          <a:blip r:embed="rId1"/>
          <a:srcRect l="32518" t="0" r="0" b="0"/>
          <a:stretch/>
        </p:blipFill>
        <p:spPr>
          <a:xfrm>
            <a:off x="4500720" y="1441440"/>
            <a:ext cx="4113000" cy="421956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574560" y="1449360"/>
            <a:ext cx="407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ежить до найвидатніших особистостей України. Вважається основоположником сучасної української м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родився в родині кріпаків, тобто селян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і були  власністю поміщиків і, неначе раби, не мали жодних пра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Тарас Шевченко (1814–186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www.arttrans.com.ua/imageproduct/425/Kramskoy_Ivan_Nickolaevich_Portrait_of_T_G_Shevchenko_the_Ukrainian__Artist_and_Writer_b.jpg"/>
          <p:cNvPicPr/>
          <p:nvPr/>
        </p:nvPicPr>
        <p:blipFill>
          <a:blip r:embed="rId1"/>
          <a:srcRect l="3992" t="0" r="0" b="0"/>
          <a:stretch/>
        </p:blipFill>
        <p:spPr>
          <a:xfrm>
            <a:off x="5003640" y="1465200"/>
            <a:ext cx="3619800" cy="484344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4237200" y="1413000"/>
            <a:ext cx="4079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ажким було дитинство поета, а ще важчим стало воно після того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 померла мати хлопчика. Мачуха незлюбила малого Тар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ільки старша сестра Катерина піклувалася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 сироту, зігрівала його теплом свого серц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Тарас Шевченко (1814–186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http://upload.wikimedia.org/wikipedia/commons/thumb/e/e0/Mykola_Pymonenko-Vechoriye.jpg/1024px-Mykola_Pymonenko-Vechoriye.jpg"/>
          <p:cNvPicPr/>
          <p:nvPr/>
        </p:nvPicPr>
        <p:blipFill>
          <a:blip r:embed="rId1"/>
          <a:srcRect l="38506" t="0" r="16283" b="0"/>
          <a:stretch/>
        </p:blipFill>
        <p:spPr>
          <a:xfrm>
            <a:off x="539640" y="1413000"/>
            <a:ext cx="3461040" cy="485748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4237200" y="1449360"/>
            <a:ext cx="4547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Хлопчик ріс допитливим, розумним, до того ж у нього рано прокинувся хист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 малювання. Він мріяв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и художником, дуже хотів навчатися. Віддали його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науку до дяка. Згодом хлопчика взяв до себе козачком (слугою) пан Енгельгард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проводжуючи пана, Шевченко побував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Вільно (Вільнюсі) та Санкт-Петербурзі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Тарас Шевченко (1814–186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http://1.bp.blogspot.com/-eHZEjoMz7RE/UTx1SONk_JI/AAAAAAAAANk/q3qpu6IUHxA/s1600/vburyanah13_09_09.jpg"/>
          <p:cNvPicPr/>
          <p:nvPr/>
        </p:nvPicPr>
        <p:blipFill>
          <a:blip r:embed="rId1"/>
          <a:stretch/>
        </p:blipFill>
        <p:spPr>
          <a:xfrm>
            <a:off x="574560" y="1449360"/>
            <a:ext cx="3457800" cy="478800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5:04:04Z</dcterms:created>
  <dc:creator>Sasha</dc:creator>
  <dc:description/>
  <dc:language>en-US</dc:language>
  <cp:lastModifiedBy>Sasha</cp:lastModifiedBy>
  <dcterms:modified xsi:type="dcterms:W3CDTF">2015-01-12T09:34:45Z</dcterms:modified>
  <cp:revision>57</cp:revision>
  <dc:subject/>
  <dc:title>Презентация PowerPoint</dc:title>
</cp:coreProperties>
</file>