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7.png" ContentType="image/png"/>
  <Override PartName="/ppt/media/image34.png" ContentType="image/png"/>
  <Override PartName="/ppt/media/image40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C8F3-556B-4C78-A9A5-138D40008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3ED-86BB-4588-B643-40E16A02E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ECF-A283-4077-BA28-2A280DDB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4E2-88F0-4FE0-A1C4-1616D5E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8BC-D8C6-482F-BCC5-1962416F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97A-EF10-48E9-BFA8-79AF9CC5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C0B6-4FF9-4004-9865-E461B40D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4965-F2EA-47BF-8E28-2CA5822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29E6-5672-43B2-B5AB-8631510B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B10-93EC-45DF-A7CF-69DEEC5B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6E7-047F-4796-BB3E-18DB898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92E4-EF0B-4D31-89FE-44EF049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76FA-FE4D-42AD-A4A7-5DAA4382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429-4614-4CE3-879A-AC38669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DAEB-27D8-4432-9E1C-2A9C409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75D-9336-4239-95B9-93B453E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058-0857-4E15-8D35-42E0BA4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78E-8C31-4E36-A132-6480A7F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1743-C380-4146-B242-7C3F85F0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07E-AE0D-4E46-B2D7-DBC7DA4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C6B-F5C5-4210-901C-FB4C9F7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A26-F096-41B1-8577-DD3035EB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677-414F-4CBC-B196-26C108B9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09F-6A0B-468D-AA96-AD19DEC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7CB-C038-4C1B-8CD9-9F4C7AB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FD7-C3DF-4BB3-A75C-396AF3D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5347-5DC3-481C-875B-2A4B13DC98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45E0-C036-4C7C-AE99-CAB42F943D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258920" y="25797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Подорож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ами світ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тал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212840" y="6114960"/>
            <a:ext cx="3384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н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957920" y="6114960"/>
            <a:ext cx="2998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занська в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4957920" y="3560760"/>
            <a:ext cx="2998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олі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212840" y="3560760"/>
            <a:ext cx="3384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лоща Св. П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Достопримечательности Италии - 3"/>
          <p:cNvPicPr/>
          <p:nvPr/>
        </p:nvPicPr>
        <p:blipFill>
          <a:blip r:embed="rId1"/>
          <a:stretch/>
        </p:blipFill>
        <p:spPr>
          <a:xfrm>
            <a:off x="1212840" y="1217520"/>
            <a:ext cx="3384720" cy="234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rich-tour.com/kartynky/venice.jpg"/>
          <p:cNvPicPr/>
          <p:nvPr/>
        </p:nvPicPr>
        <p:blipFill>
          <a:blip r:embed="rId2"/>
          <a:stretch/>
        </p:blipFill>
        <p:spPr>
          <a:xfrm>
            <a:off x="1212840" y="4068720"/>
            <a:ext cx="3384720" cy="2054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info.radynacestu.cz/img/w-800,h-600/2011-12-11/111111221.jpg"/>
          <p:cNvPicPr/>
          <p:nvPr/>
        </p:nvPicPr>
        <p:blipFill>
          <a:blip r:embed="rId3"/>
          <a:stretch/>
        </p:blipFill>
        <p:spPr>
          <a:xfrm>
            <a:off x="4957920" y="4068720"/>
            <a:ext cx="2998800" cy="20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www.kultobozrevatel.ru/sites/default/files/images/reviews/architecture/kolizey.jpg"/>
          <p:cNvPicPr/>
          <p:nvPr/>
        </p:nvPicPr>
        <p:blipFill>
          <a:blip r:embed="rId4"/>
          <a:stretch/>
        </p:blipFill>
        <p:spPr>
          <a:xfrm>
            <a:off x="4957920" y="1217520"/>
            <a:ext cx="299880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ttp://upload.wikimedia.org/wikipedia/commons/thumb/f/fa/Flag_of_the_People%27s_Republic_of_China.svg/900px-Flag_of_the_People%27s_Republic_of_China.svg.png"/>
          <p:cNvPicPr/>
          <p:nvPr/>
        </p:nvPicPr>
        <p:blipFill>
          <a:blip r:embed="rId1"/>
          <a:stretch/>
        </p:blipFill>
        <p:spPr>
          <a:xfrm>
            <a:off x="4967280" y="1893960"/>
            <a:ext cx="280836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и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4883040" y="4076640"/>
            <a:ext cx="372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ька Народна Республік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а у Східній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Пекі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upload.wikimedia.org/wikipedia/commons/thumb/7/78/People%27s_Republic_of_China_%28orthographic_projection%29.svg/541px-People%27s_Republic_of_China_%28orthographic_projection%29.svg.png"/>
          <p:cNvPicPr/>
          <p:nvPr/>
        </p:nvPicPr>
        <p:blipFill>
          <a:blip r:embed="rId2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и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6005520"/>
            <a:ext cx="36054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ракотова арм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4854600" y="600552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боронене мі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826920" y="3417840"/>
            <a:ext cx="36086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ликий Китайський м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lifeglobe.net/media/entry/0/different10-39.jpg"/>
          <p:cNvPicPr/>
          <p:nvPr/>
        </p:nvPicPr>
        <p:blipFill>
          <a:blip r:embed="rId1"/>
          <a:stretch/>
        </p:blipFill>
        <p:spPr>
          <a:xfrm>
            <a:off x="826920" y="1268280"/>
            <a:ext cx="3608640" cy="21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ifeglobe.net/media/entry/0/different8-41.jpg"/>
          <p:cNvPicPr/>
          <p:nvPr/>
        </p:nvPicPr>
        <p:blipFill>
          <a:blip r:embed="rId2"/>
          <a:stretch/>
        </p:blipFill>
        <p:spPr>
          <a:xfrm>
            <a:off x="4854600" y="3933720"/>
            <a:ext cx="3246480" cy="207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lifeglobe.net/media/entry/0/different6-60.jpg"/>
          <p:cNvPicPr/>
          <p:nvPr/>
        </p:nvPicPr>
        <p:blipFill>
          <a:blip r:embed="rId3"/>
          <a:stretch/>
        </p:blipFill>
        <p:spPr>
          <a:xfrm>
            <a:off x="826920" y="3933720"/>
            <a:ext cx="360864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lifeglobe.net/media/entry/0/different4-66.jpg"/>
          <p:cNvPicPr/>
          <p:nvPr/>
        </p:nvPicPr>
        <p:blipFill>
          <a:blip r:embed="rId4"/>
          <a:stretch/>
        </p:blipFill>
        <p:spPr>
          <a:xfrm>
            <a:off x="4854600" y="1263600"/>
            <a:ext cx="3246480" cy="21607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4854600" y="341784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и Хуанш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http://upload.wikimedia.org/wikipedia/commons/thumb/f/fe/Flag_of_Egypt.svg/900px-Flag_of_Egypt.svg.png"/>
          <p:cNvPicPr/>
          <p:nvPr/>
        </p:nvPicPr>
        <p:blipFill>
          <a:blip r:embed="rId1"/>
          <a:stretch/>
        </p:blipFill>
        <p:spPr>
          <a:xfrm>
            <a:off x="4960800" y="1890720"/>
            <a:ext cx="281484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2" name="Picture 2" descr="http://upload.wikimedia.org/wikipedia/commons/thumb/4/4b/Egypt_%28orthographic_projection%29.svg/550px-Egypt_%28orthographic_projection%29.svg.png"/>
          <p:cNvPicPr/>
          <p:nvPr/>
        </p:nvPicPr>
        <p:blipFill>
          <a:blip r:embed="rId2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Є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4883040" y="4076640"/>
            <a:ext cx="386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гипет — 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івнічному сході Африки та Синайському півострові в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Каї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Є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611280" y="5033880"/>
            <a:ext cx="3605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ликий Сфін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4473720" y="5033880"/>
            <a:ext cx="40590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Єгипетські пірам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www.autotravel.org.ua/images/doc/8/2/823309d-10.jpg"/>
          <p:cNvPicPr/>
          <p:nvPr/>
        </p:nvPicPr>
        <p:blipFill>
          <a:blip r:embed="rId1"/>
          <a:stretch/>
        </p:blipFill>
        <p:spPr>
          <a:xfrm>
            <a:off x="611280" y="2328840"/>
            <a:ext cx="3608280" cy="2705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www.autotravel.org.ua/images/doc/5/a/5a06049-3.jpg"/>
          <p:cNvPicPr/>
          <p:nvPr/>
        </p:nvPicPr>
        <p:blipFill>
          <a:blip r:embed="rId2"/>
          <a:stretch/>
        </p:blipFill>
        <p:spPr>
          <a:xfrm>
            <a:off x="4473720" y="2328840"/>
            <a:ext cx="4059000" cy="27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http://upload.wikimedia.org/wikipedia/commons/thumb/b/bb/India_%28orthographic_projection%29.svg/541px-India_%28orthographic_projection%29.svg.png"/>
          <p:cNvPicPr/>
          <p:nvPr/>
        </p:nvPicPr>
        <p:blipFill>
          <a:blip r:embed="rId1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upload.wikimedia.org/wikipedia/commons/5/51/India_flag.png"/>
          <p:cNvPicPr/>
          <p:nvPr/>
        </p:nvPicPr>
        <p:blipFill>
          <a:blip r:embed="rId2"/>
          <a:stretch/>
        </p:blipFill>
        <p:spPr>
          <a:xfrm>
            <a:off x="4960800" y="1890720"/>
            <a:ext cx="283716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нд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4883040" y="4076640"/>
            <a:ext cx="386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дія — краї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івденній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Де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нд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826920" y="6005520"/>
            <a:ext cx="36054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4854600" y="600552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Ґ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826920" y="3417840"/>
            <a:ext cx="36086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адж-Мах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4854600" y="341784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к Кан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Достопримечательности Индии: Тадж-Махал"/>
          <p:cNvPicPr/>
          <p:nvPr/>
        </p:nvPicPr>
        <p:blipFill>
          <a:blip r:embed="rId1"/>
          <a:stretch/>
        </p:blipFill>
        <p:spPr>
          <a:xfrm>
            <a:off x="826920" y="1263600"/>
            <a:ext cx="3605400" cy="215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национальный парк канха"/>
          <p:cNvPicPr/>
          <p:nvPr/>
        </p:nvPicPr>
        <p:blipFill>
          <a:blip r:embed="rId2"/>
          <a:stretch/>
        </p:blipFill>
        <p:spPr>
          <a:xfrm>
            <a:off x="4854600" y="1263600"/>
            <a:ext cx="3241800" cy="215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s://upload.wikimedia.org/wikipedia/commons/5/5f/Bahai-house-of-worship-delhi2.jpg"/>
          <p:cNvPicPr/>
          <p:nvPr/>
        </p:nvPicPr>
        <p:blipFill>
          <a:blip r:embed="rId3"/>
          <a:stretch/>
        </p:blipFill>
        <p:spPr>
          <a:xfrm>
            <a:off x="826920" y="3978360"/>
            <a:ext cx="3608640" cy="2027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www.elmatur.com.ua/content/Image/otdyh-na-goa-2.jpg"/>
          <p:cNvPicPr/>
          <p:nvPr/>
        </p:nvPicPr>
        <p:blipFill>
          <a:blip r:embed="rId4"/>
          <a:stretch/>
        </p:blipFill>
        <p:spPr>
          <a:xfrm>
            <a:off x="4854600" y="3978360"/>
            <a:ext cx="3241800" cy="20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upload.wikimedia.org/wikipedia/commons/thumb/7/70/United_States_%28orthographic_projection%29.svg/541px-United_States_%28orthographic_projection%29.svg.png"/>
          <p:cNvPicPr/>
          <p:nvPr/>
        </p:nvPicPr>
        <p:blipFill>
          <a:blip r:embed="rId1"/>
          <a:stretch/>
        </p:blipFill>
        <p:spPr>
          <a:xfrm>
            <a:off x="471600" y="1704960"/>
            <a:ext cx="4171680" cy="417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upload.wikimedia.org/wikipedia/commons/thumb/a/a4/Flag_of_the_United_States.svg/1235px-Flag_of_the_United_States.svg.png"/>
          <p:cNvPicPr/>
          <p:nvPr/>
        </p:nvPicPr>
        <p:blipFill>
          <a:blip r:embed="rId2"/>
          <a:stretch/>
        </p:blipFill>
        <p:spPr>
          <a:xfrm>
            <a:off x="4960800" y="1890720"/>
            <a:ext cx="359280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932360" y="4076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лучені Штати Америки — федеративне об'єднанн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івнічній Америці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о складається з 50 штаті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иця — місто Вашинг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824040" y="6005520"/>
            <a:ext cx="3600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оллів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854600" y="6005520"/>
            <a:ext cx="35337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татуя Своб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24040" y="3649680"/>
            <a:ext cx="3600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с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олоті воро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worlds.ru/photo/usa_120620091227_4.JPG"/>
          <p:cNvPicPr/>
          <p:nvPr/>
        </p:nvPicPr>
        <p:blipFill>
          <a:blip r:embed="rId1"/>
          <a:stretch/>
        </p:blipFill>
        <p:spPr>
          <a:xfrm>
            <a:off x="4854600" y="129384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lingua-room.com/wp-content/uploads/2011/10/am_hollywood.jpg"/>
          <p:cNvPicPr/>
          <p:nvPr/>
        </p:nvPicPr>
        <p:blipFill>
          <a:blip r:embed="rId2"/>
          <a:stretch/>
        </p:blipFill>
        <p:spPr>
          <a:xfrm>
            <a:off x="824040" y="4216320"/>
            <a:ext cx="360036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theoutlook.com.ua/uploads/user/l1048755439.jpg"/>
          <p:cNvPicPr/>
          <p:nvPr/>
        </p:nvPicPr>
        <p:blipFill>
          <a:blip r:embed="rId3"/>
          <a:stretch/>
        </p:blipFill>
        <p:spPr>
          <a:xfrm>
            <a:off x="824040" y="1293840"/>
            <a:ext cx="3600360" cy="23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116000" y="6067440"/>
            <a:ext cx="3083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існей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4560840" y="6067440"/>
            <a:ext cx="3627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ий Кань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116000" y="3263760"/>
            <a:ext cx="3083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ора Раш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uslookus.files.wordpress.com/2014/02/d0bfd180d0b5d0b7d0b8d0b4d0b5d0bdd182d0bed0b2.jpg?w=710"/>
          <p:cNvPicPr/>
          <p:nvPr/>
        </p:nvPicPr>
        <p:blipFill>
          <a:blip r:embed="rId1"/>
          <a:stretch/>
        </p:blipFill>
        <p:spPr>
          <a:xfrm>
            <a:off x="1116000" y="1197000"/>
            <a:ext cx="3083040" cy="2074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os1.i.ua/3/7/10372382_72cac1ab.jpg"/>
          <p:cNvPicPr/>
          <p:nvPr/>
        </p:nvPicPr>
        <p:blipFill>
          <a:blip r:embed="rId2"/>
          <a:stretch/>
        </p:blipFill>
        <p:spPr>
          <a:xfrm>
            <a:off x="4560840" y="1197000"/>
            <a:ext cx="3630600" cy="207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planet-earth.ru/wp-content/uploads/disneyland_orlando11.jpg"/>
          <p:cNvPicPr/>
          <p:nvPr/>
        </p:nvPicPr>
        <p:blipFill>
          <a:blip r:embed="rId3"/>
          <a:stretch/>
        </p:blipFill>
        <p:spPr>
          <a:xfrm>
            <a:off x="1116000" y="375444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http://lifeglobe.net/x/entry/4991/8.jpg"/>
          <p:cNvPicPr/>
          <p:nvPr/>
        </p:nvPicPr>
        <p:blipFill>
          <a:blip r:embed="rId4"/>
          <a:stretch/>
        </p:blipFill>
        <p:spPr>
          <a:xfrm>
            <a:off x="4560840" y="3754440"/>
            <a:ext cx="3627360" cy="2313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4560840" y="3263760"/>
            <a:ext cx="3627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іагарський водос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Велика Брита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859280" y="3568680"/>
            <a:ext cx="40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Ве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тан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суверенна держава, розташована біля північно-західного узбережжя континентальної Європи. Столиц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та найбільше місто)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Лон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Файл:EU-United Kingdom.svg"/>
          <p:cNvPicPr/>
          <p:nvPr/>
        </p:nvPicPr>
        <p:blipFill>
          <a:blip r:embed="rId1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15" name="Picture 17" descr="http://upload.wikimedia.org/wikipedia/commons/thumb/a/ae/Flag_of_the_United_Kingdom.svg/1200px-Flag_of_the_United_Kingdom.svg.png"/>
          <p:cNvPicPr/>
          <p:nvPr/>
        </p:nvPicPr>
        <p:blipFill>
          <a:blip r:embed="rId2"/>
          <a:stretch/>
        </p:blipFill>
        <p:spPr>
          <a:xfrm>
            <a:off x="4932360" y="1916280"/>
            <a:ext cx="2813040" cy="140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Велика Брита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chydosan.narod.ru/Drev/St/St.gif"/>
          <p:cNvPicPr/>
          <p:nvPr/>
        </p:nvPicPr>
        <p:blipFill>
          <a:blip r:embed="rId1"/>
          <a:srcRect l="3872" t="38259" r="3468" b="6334"/>
          <a:stretch/>
        </p:blipFill>
        <p:spPr>
          <a:xfrm>
            <a:off x="668160" y="1444680"/>
            <a:ext cx="3903840" cy="1751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668160" y="5908680"/>
            <a:ext cx="39038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Лондонське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cs310319.vk.me/v310319717/a1a/A8aim0pjrJY.jpg"/>
          <p:cNvPicPr/>
          <p:nvPr/>
        </p:nvPicPr>
        <p:blipFill>
          <a:blip r:embed="rId2"/>
          <a:stretch/>
        </p:blipFill>
        <p:spPr>
          <a:xfrm>
            <a:off x="4707000" y="1444680"/>
            <a:ext cx="3825720" cy="4464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4707000" y="5908680"/>
            <a:ext cx="3825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г 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http://www.luxplanet.ua/static/img/3/4/348_or_650x443.jpg"/>
          <p:cNvPicPr/>
          <p:nvPr/>
        </p:nvPicPr>
        <p:blipFill>
          <a:blip r:embed="rId3"/>
          <a:stretch/>
        </p:blipFill>
        <p:spPr>
          <a:xfrm>
            <a:off x="668160" y="3676680"/>
            <a:ext cx="39038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68160" y="3195720"/>
            <a:ext cx="39038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тоунхен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upload.wikimedia.org/wikipedia/commons/thumb/a/a3/EU-France.svg/800px-EU-France.svg.png"/>
          <p:cNvPicPr/>
          <p:nvPr/>
        </p:nvPicPr>
        <p:blipFill>
          <a:blip r:embed="rId1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sp>
        <p:nvSpPr>
          <p:cNvPr id="12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Фр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5003640" y="433224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ранц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аході Європи. Столиця (та найбільше місто) — Пари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upload.wikimedia.org/wikipedia/commons/thumb/c/c3/Flag_of_France.svg/900px-Flag_of_France.svg.png"/>
          <p:cNvPicPr/>
          <p:nvPr/>
        </p:nvPicPr>
        <p:blipFill>
          <a:blip r:embed="rId2"/>
          <a:stretch/>
        </p:blipFill>
        <p:spPr>
          <a:xfrm>
            <a:off x="5003640" y="1916280"/>
            <a:ext cx="277200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Фр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1"/>
          <p:cNvGrpSpPr/>
          <p:nvPr/>
        </p:nvGrpSpPr>
        <p:grpSpPr>
          <a:xfrm>
            <a:off x="668160" y="1328760"/>
            <a:ext cx="7570800" cy="5158440"/>
            <a:chOff x="668160" y="1328760"/>
            <a:chExt cx="7570800" cy="5158440"/>
          </a:xfrm>
        </p:grpSpPr>
        <p:sp>
          <p:nvSpPr>
            <p:cNvPr id="129" name="TextBox 1"/>
            <p:cNvSpPr/>
            <p:nvPr/>
          </p:nvSpPr>
          <p:spPr>
            <a:xfrm>
              <a:off x="668160" y="6088320"/>
              <a:ext cx="441648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Музей Лув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"/>
            <p:cNvSpPr/>
            <p:nvPr/>
          </p:nvSpPr>
          <p:spPr>
            <a:xfrm>
              <a:off x="5241240" y="6088320"/>
              <a:ext cx="299772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Ейфелева веж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"/>
            <p:cNvSpPr/>
            <p:nvPr/>
          </p:nvSpPr>
          <p:spPr>
            <a:xfrm>
              <a:off x="668160" y="4130640"/>
              <a:ext cx="441648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Нотр-Дам де Пар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2" descr="http://upload.wikimedia.org/wikipedia/commons/thumb/7/79/Paris_06_Eiffelturm_4828.jpg/250px-Paris_06_Eiffelturm_4828.jpg"/>
            <p:cNvPicPr/>
            <p:nvPr/>
          </p:nvPicPr>
          <p:blipFill>
            <a:blip r:embed="rId1"/>
            <a:stretch/>
          </p:blipFill>
          <p:spPr>
            <a:xfrm>
              <a:off x="5241240" y="1328760"/>
              <a:ext cx="2997720" cy="47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" descr="http://lifeglobe.net/x/entry/5054/16.jpg"/>
            <p:cNvPicPr/>
            <p:nvPr/>
          </p:nvPicPr>
          <p:blipFill>
            <a:blip r:embed="rId2"/>
            <a:stretch/>
          </p:blipFill>
          <p:spPr>
            <a:xfrm>
              <a:off x="668160" y="4643640"/>
              <a:ext cx="441648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" descr="http://allcastle.info/assets/images/foto/135-2.jpg"/>
            <p:cNvPicPr/>
            <p:nvPr/>
          </p:nvPicPr>
          <p:blipFill>
            <a:blip r:embed="rId3"/>
            <a:stretch/>
          </p:blipFill>
          <p:spPr>
            <a:xfrm>
              <a:off x="668160" y="1328760"/>
              <a:ext cx="441648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upload.wikimedia.org/wikipedia/commons/thumb/0/03/Flag_of_Italy.svg/1024px-Flag_of_Italy.svg.png"/>
          <p:cNvPicPr/>
          <p:nvPr/>
        </p:nvPicPr>
        <p:blipFill>
          <a:blip r:embed="rId1"/>
          <a:stretch/>
        </p:blipFill>
        <p:spPr>
          <a:xfrm>
            <a:off x="5003640" y="1916280"/>
            <a:ext cx="277200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2" descr="http://upload.wikimedia.org/wikipedia/commons/thumb/b/ba/EU-Italy.svg/800px-EU-Italy.svg.png"/>
          <p:cNvPicPr/>
          <p:nvPr/>
        </p:nvPicPr>
        <p:blipFill>
          <a:blip r:embed="rId2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sp>
        <p:nvSpPr>
          <p:cNvPr id="13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талі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5003640" y="433224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талія — 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івдні Європ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земномор'ї. Столиця (та найбільше місто) —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5:23Z</dcterms:modified>
  <cp:revision>55</cp:revision>
  <dc:subject/>
  <dc:title>Презентация PowerPoint</dc:title>
</cp:coreProperties>
</file>