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F8BD-7526-418F-8738-8A27ECA36D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ожним кліком 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’явля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ється нова складова висловлюван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A555-9E49-45E6-9950-676DBFC93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F6E0-5C92-4095-9027-0C94F6094A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B897-963D-4D5B-A442-E03E73D1B4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0067-1706-45EE-A87F-7BD59EB199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E8B-1F1A-4D5B-B2E2-BD152052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651-6DAA-4AF4-9B19-2FAEE70E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CEE-9641-4D12-B0EB-E6998151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7B0-D41C-4F63-89F8-708854C3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1009-9F4E-43B2-BE9F-B6DBB677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3794-61EF-428D-B250-FA60428A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1C1C-B1CA-47FC-8578-390E157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3647-F071-415E-941E-71DAAAA3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1D39-F806-455F-99FA-661E63C4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A232-174A-4818-9EE2-1797A05A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D3D2-6423-48A8-8FB8-04C3CD05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EF7-D94B-4B9B-9219-1FEEFE0C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2419-4F52-40AD-AEE6-321CF35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63AD-80D0-4616-875C-0013BA13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3BCD-3097-4567-BEDB-74D344E3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AE43-C1B0-4E92-B452-74A03BFC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8B66-F254-4E9B-A495-953A8498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59D-AE06-4DF1-A195-C736DEA6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1C8-8590-46E4-AA84-327B0CAD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12C-819D-46B3-8D46-60B63FD9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D9B-B161-4244-953D-43EA2A5E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55F-7726-4B35-86D1-AE75211A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8EA-5927-438F-B28A-669F5B18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972-4397-4BE6-95E2-E1B1A46B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A1BC-5FD2-4025-8AA0-46DC20D433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73E3-5D8C-4CFD-B6DA-A1FA25283E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258920" y="250020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«Розвиваємо </a:t>
            </a: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свої здібності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878480" y="1700280"/>
            <a:ext cx="5386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Arial"/>
                <a:ea typeface="Arial"/>
              </a:rPr>
              <a:t>УСПІХ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Arial"/>
                <a:ea typeface="Arial"/>
              </a:rPr>
              <a:t>здібност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Arial"/>
                <a:ea typeface="Arial"/>
              </a:rPr>
              <a:t>працелюбні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1708560" y="27068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3266640" y="352728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н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1367280" y="443088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3300840" y="52354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зви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4"/>
          <p:cNvSpPr/>
          <p:nvPr/>
        </p:nvSpPr>
        <p:spPr>
          <a:xfrm>
            <a:off x="743040" y="2060640"/>
            <a:ext cx="62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Звичка — друга натура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9"/>
          <p:cNvSpPr/>
          <p:nvPr/>
        </p:nvSpPr>
        <p:spPr>
          <a:xfrm>
            <a:off x="4007880" y="24447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у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1614240" y="345744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зл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1486080" y="194796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доб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743040" y="2060640"/>
            <a:ext cx="62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Усе добре переймай, </a:t>
            </a:r>
            <a:br>
              <a:rPr sz="3600"/>
            </a:b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а злого уник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2714760" y="445932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уни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3776760" y="542448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ерейм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965480" y="3457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4"/>
          <p:cNvSpPr/>
          <p:nvPr/>
        </p:nvSpPr>
        <p:spPr>
          <a:xfrm>
            <a:off x="395280" y="131436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Посієш вчинок — пожнеш звичку, посієш звичку — пожнеш характер, посієш характер — пожнеш до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141560" y="55594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437400" y="4265640"/>
            <a:ext cx="34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сієш зви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0"/>
          <p:cNvSpPr/>
          <p:nvPr/>
        </p:nvSpPr>
        <p:spPr>
          <a:xfrm>
            <a:off x="1569600" y="4913280"/>
            <a:ext cx="36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жнеш зви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1"/>
          <p:cNvSpPr/>
          <p:nvPr/>
        </p:nvSpPr>
        <p:spPr>
          <a:xfrm>
            <a:off x="488160" y="306864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сієш вчи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2239560" y="3619440"/>
            <a:ext cx="41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жнеш 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2"/>
          <p:cNvSpPr/>
          <p:nvPr/>
        </p:nvSpPr>
        <p:spPr>
          <a:xfrm>
            <a:off x="791640" y="179856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жнеш до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042360" y="240336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сієш 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2892600" y="56610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6"/>
          <p:cNvSpPr/>
          <p:nvPr/>
        </p:nvSpPr>
        <p:spPr>
          <a:xfrm>
            <a:off x="4918320" y="55594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1"/>
          <p:cNvGrpSpPr/>
          <p:nvPr/>
        </p:nvGrpSpPr>
        <p:grpSpPr>
          <a:xfrm>
            <a:off x="1047600" y="1413000"/>
            <a:ext cx="7048800" cy="4821120"/>
            <a:chOff x="1047600" y="1413000"/>
            <a:chExt cx="7048800" cy="4821120"/>
          </a:xfrm>
        </p:grpSpPr>
        <p:pic>
          <p:nvPicPr>
            <p:cNvPr id="93" name="Picture 2" descr="http://sport-nika.ru/wp-content/uploads/2012/07/%D0%A5%D1%83%D0%B4%D0%BE%D0%B6%D0%B5%D1%81%D1%82%D0%B2%D0%B5%D0%BD%D0%BD%D0%B0%D1%8F-%D0%B3%D0%B8%D0%BC%D0%BD%D0%B0%D1%81%D1%82%D0%B8%D0%BA%D0%B0.png"/>
            <p:cNvPicPr/>
            <p:nvPr/>
          </p:nvPicPr>
          <p:blipFill>
            <a:blip r:embed="rId1"/>
            <a:stretch/>
          </p:blipFill>
          <p:spPr>
            <a:xfrm>
              <a:off x="1047600" y="1413000"/>
              <a:ext cx="3468960" cy="2200320"/>
            </a:xfrm>
            <a:prstGeom prst="rect">
              <a:avLst/>
            </a:prstGeom>
            <a:ln w="19080">
              <a:solidFill>
                <a:srgbClr val="007fac"/>
              </a:solidFill>
              <a:miter/>
            </a:ln>
          </p:spPr>
        </p:pic>
        <p:pic>
          <p:nvPicPr>
            <p:cNvPr id="94" name="Picture 4" descr="http://noviyvek.uz/wp-content/uploads/2012/12/karate-patsan.jpg"/>
            <p:cNvPicPr/>
            <p:nvPr/>
          </p:nvPicPr>
          <p:blipFill>
            <a:blip r:embed="rId2"/>
            <a:srcRect l="0" t="0" r="847" b="0"/>
            <a:stretch/>
          </p:blipFill>
          <p:spPr>
            <a:xfrm>
              <a:off x="1047600" y="3917160"/>
              <a:ext cx="3470400" cy="2316960"/>
            </a:xfrm>
            <a:prstGeom prst="rect">
              <a:avLst/>
            </a:prstGeom>
            <a:ln w="19080">
              <a:solidFill>
                <a:srgbClr val="007fac"/>
              </a:solidFill>
              <a:miter/>
            </a:ln>
          </p:spPr>
        </p:pic>
        <p:pic>
          <p:nvPicPr>
            <p:cNvPr id="95" name="Picture 6" descr="http://www.balalaralemi.kz/upd/2014/0617/1402976951539fbab7b26f33.94631893.jpg"/>
            <p:cNvPicPr/>
            <p:nvPr/>
          </p:nvPicPr>
          <p:blipFill>
            <a:blip r:embed="rId3"/>
            <a:stretch/>
          </p:blipFill>
          <p:spPr>
            <a:xfrm>
              <a:off x="4784760" y="1413000"/>
              <a:ext cx="3311640" cy="2200320"/>
            </a:xfrm>
            <a:prstGeom prst="rect">
              <a:avLst/>
            </a:prstGeom>
            <a:ln w="19080">
              <a:solidFill>
                <a:srgbClr val="007fac"/>
              </a:solidFill>
              <a:miter/>
            </a:ln>
          </p:spPr>
        </p:pic>
        <p:pic>
          <p:nvPicPr>
            <p:cNvPr id="96" name="Picture 4" descr="http://tancor.ru/cms/files/photosfiles/2458/2517015_image.jpg"/>
            <p:cNvPicPr/>
            <p:nvPr/>
          </p:nvPicPr>
          <p:blipFill>
            <a:blip r:embed="rId4"/>
            <a:srcRect l="0" t="0" r="4678" b="0"/>
            <a:stretch/>
          </p:blipFill>
          <p:spPr>
            <a:xfrm>
              <a:off x="4784760" y="3917160"/>
              <a:ext cx="3311640" cy="2316240"/>
            </a:xfrm>
            <a:prstGeom prst="rect">
              <a:avLst/>
            </a:prstGeom>
            <a:ln w="19080">
              <a:solidFill>
                <a:srgbClr val="007fac"/>
              </a:solidFill>
              <a:miter/>
            </a:ln>
          </p:spPr>
        </p:pic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smartnews.ru/storage/c/2013/06/07/1370591942_458862_30.jpg"/>
          <p:cNvPicPr/>
          <p:nvPr/>
        </p:nvPicPr>
        <p:blipFill>
          <a:blip r:embed="rId1"/>
          <a:stretch/>
        </p:blipFill>
        <p:spPr>
          <a:xfrm>
            <a:off x="900000" y="1301760"/>
            <a:ext cx="3635640" cy="2414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98" name="Picture 2" descr="http://www.kids.staniv.ru/Images/pesni.jpg"/>
          <p:cNvPicPr/>
          <p:nvPr/>
        </p:nvPicPr>
        <p:blipFill>
          <a:blip r:embed="rId2"/>
          <a:stretch/>
        </p:blipFill>
        <p:spPr>
          <a:xfrm>
            <a:off x="4822920" y="1301760"/>
            <a:ext cx="3220920" cy="2414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99" name="Picture 4" descr="http://nios.ru/sites/default/files/1404023910_skripka_devochka.gif"/>
          <p:cNvPicPr/>
          <p:nvPr/>
        </p:nvPicPr>
        <p:blipFill>
          <a:blip r:embed="rId3"/>
          <a:srcRect l="0" t="1081" r="0" b="0"/>
          <a:stretch/>
        </p:blipFill>
        <p:spPr>
          <a:xfrm>
            <a:off x="900000" y="3962520"/>
            <a:ext cx="3635640" cy="23922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0" name="Picture 6" descr="http://www.rosnou.ru/pub/01_fam/scl_kvn/001+.jpg"/>
          <p:cNvPicPr/>
          <p:nvPr/>
        </p:nvPicPr>
        <p:blipFill>
          <a:blip r:embed="rId4"/>
          <a:srcRect l="0" t="0" r="10954" b="0"/>
          <a:stretch/>
        </p:blipFill>
        <p:spPr>
          <a:xfrm>
            <a:off x="4822920" y="3962520"/>
            <a:ext cx="3220920" cy="24192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upload.wikimedia.org/wikipedia/commons/6/6c/RIAN_archive_11591_Galina_Ulanova_and_Yury_Zhdanov_in_the_ballet_%22Romeo_And_Juliet%22.jpg"/>
          <p:cNvPicPr/>
          <p:nvPr/>
        </p:nvPicPr>
        <p:blipFill>
          <a:blip r:embed="rId1"/>
          <a:stretch/>
        </p:blipFill>
        <p:spPr>
          <a:xfrm>
            <a:off x="1106640" y="1766880"/>
            <a:ext cx="3120840" cy="43988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2" name="Picture 4" descr="http://lichnosti.net/photos/2254/12830076362.jpg"/>
          <p:cNvPicPr/>
          <p:nvPr/>
        </p:nvPicPr>
        <p:blipFill>
          <a:blip r:embed="rId2"/>
          <a:stretch/>
        </p:blipFill>
        <p:spPr>
          <a:xfrm>
            <a:off x="4788000" y="1757520"/>
            <a:ext cx="3313080" cy="43988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3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Галина Ул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artsalive.ca/upload/dan/3413383-m_full.jpg"/>
          <p:cNvPicPr/>
          <p:nvPr/>
        </p:nvPicPr>
        <p:blipFill>
          <a:blip r:embed="rId1"/>
          <a:stretch/>
        </p:blipFill>
        <p:spPr>
          <a:xfrm>
            <a:off x="3424320" y="1773360"/>
            <a:ext cx="5180040" cy="40320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5" name="Picture 4" descr="http://www.belcanto.ru/media/images/persons/lifar3.jpg"/>
          <p:cNvPicPr/>
          <p:nvPr/>
        </p:nvPicPr>
        <p:blipFill>
          <a:blip r:embed="rId2"/>
          <a:srcRect l="21186" t="0" r="0" b="0"/>
          <a:stretch/>
        </p:blipFill>
        <p:spPr>
          <a:xfrm>
            <a:off x="566640" y="1773360"/>
            <a:ext cx="2641680" cy="40320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6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Серж Лиф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fs168.www.ex.ua/show/29458603/29458603.jpg?1600"/>
          <p:cNvPicPr/>
          <p:nvPr/>
        </p:nvPicPr>
        <p:blipFill>
          <a:blip r:embed="rId1"/>
          <a:srcRect l="11872" t="0" r="0" b="0"/>
          <a:stretch/>
        </p:blipFill>
        <p:spPr>
          <a:xfrm>
            <a:off x="4586400" y="1763640"/>
            <a:ext cx="3647880" cy="4140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8" name="Picture 4" descr="http://fakty.ua/user_uploads/images/articles/2012/07/27/151105/27s11%20stupka2.jpg"/>
          <p:cNvPicPr/>
          <p:nvPr/>
        </p:nvPicPr>
        <p:blipFill>
          <a:blip r:embed="rId2"/>
          <a:srcRect l="12087" t="0" r="26667" b="0"/>
          <a:stretch/>
        </p:blipFill>
        <p:spPr>
          <a:xfrm>
            <a:off x="826920" y="1771560"/>
            <a:ext cx="3614760" cy="4140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9" name="TextBox 7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Богдан Сту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lichnosti.net/photos/1022/sets/8_4f6f2a89b8d52.jpg"/>
          <p:cNvPicPr/>
          <p:nvPr/>
        </p:nvPicPr>
        <p:blipFill>
          <a:blip r:embed="rId1"/>
          <a:stretch/>
        </p:blipFill>
        <p:spPr>
          <a:xfrm>
            <a:off x="4035600" y="1992240"/>
            <a:ext cx="4424040" cy="3600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1" name="Picture 4" descr="http://www.sport-express.ua/upload/news/2011/4/52605-olimpizm-kievskij-nok-vozglavila-jana-klochkova.jpg"/>
          <p:cNvPicPr/>
          <p:nvPr/>
        </p:nvPicPr>
        <p:blipFill>
          <a:blip r:embed="rId2"/>
          <a:srcRect l="6357" t="0" r="10908" b="0"/>
          <a:stretch/>
        </p:blipFill>
        <p:spPr>
          <a:xfrm>
            <a:off x="722160" y="1992240"/>
            <a:ext cx="2979720" cy="3600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12" name="TextBox 5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Яна Клоч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http://desporter.com.ua/i/nauka/shevchenko/sheva.jpg"/>
          <p:cNvPicPr/>
          <p:nvPr/>
        </p:nvPicPr>
        <p:blipFill>
          <a:blip r:embed="rId1"/>
          <a:srcRect l="9533" t="0" r="11809" b="0"/>
          <a:stretch/>
        </p:blipFill>
        <p:spPr>
          <a:xfrm>
            <a:off x="606600" y="1952640"/>
            <a:ext cx="2676240" cy="37800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4" name="Picture 8" descr="http://shakhtar.com/data/imgdata/foto/news/126350__max_news.jpg"/>
          <p:cNvPicPr/>
          <p:nvPr/>
        </p:nvPicPr>
        <p:blipFill>
          <a:blip r:embed="rId2"/>
          <a:srcRect l="9262" t="0" r="0" b="0"/>
          <a:stretch/>
        </p:blipFill>
        <p:spPr>
          <a:xfrm>
            <a:off x="3630600" y="1952640"/>
            <a:ext cx="4973760" cy="37800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15" name="TextBox 5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Андрій Шевч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sport-xl.org/uploads/posts/2014-05/1399956113_klichko.jpg"/>
          <p:cNvPicPr/>
          <p:nvPr/>
        </p:nvPicPr>
        <p:blipFill>
          <a:blip r:embed="rId1"/>
          <a:srcRect l="21482" t="0" r="25275" b="0"/>
          <a:stretch/>
        </p:blipFill>
        <p:spPr>
          <a:xfrm>
            <a:off x="5724360" y="1989000"/>
            <a:ext cx="2818080" cy="35229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7" name="Picture 4" descr="http://kor.ill.in.ua/m/610x385/1532263.jpg"/>
          <p:cNvPicPr/>
          <p:nvPr/>
        </p:nvPicPr>
        <p:blipFill>
          <a:blip r:embed="rId2"/>
          <a:srcRect l="8017" t="0" r="5421" b="0"/>
          <a:stretch/>
        </p:blipFill>
        <p:spPr>
          <a:xfrm>
            <a:off x="611280" y="1989000"/>
            <a:ext cx="4830840" cy="35229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18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Володимир Клич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Alex</cp:lastModifiedBy>
  <dcterms:modified xsi:type="dcterms:W3CDTF">2015-07-14T13:31:03Z</dcterms:modified>
  <cp:revision>42</cp:revision>
  <dc:subject/>
  <dc:title>Презентация PowerPoint</dc:title>
</cp:coreProperties>
</file>