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940-7206-4DD8-A576-31B46DB7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F52-8FE8-4B51-BBF2-753953D3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8E9-8CCA-4707-A0F0-E3F1AB3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F6F-FBC3-4B14-99A0-E2F112C8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6B0B-DC6E-4BEA-9FFB-919ED063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0E61-D9E3-43CF-90DC-FA1763B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7830-14BD-4DDB-BE8E-80517D0C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8A2-3FAE-4222-B2CB-5C52FE80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97E-E41A-4096-A38B-14C1439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454-17ED-4354-A1F6-2BC55FB6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CE1-E002-4E20-91DA-220F1D1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D26-F9DF-4C6E-B477-F9C6FA3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48EB-47A0-437F-8018-C8BB2A6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1307-7661-4184-94DD-7B9BE19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F463-A5F4-4D3B-A77C-4B9FB65E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7D4E-46B5-4EF0-8E63-68D5B0E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26A-1A59-4C35-9468-AE42CCC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6D9-4719-45DA-986F-9DAD3E63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F2D-32A3-4513-A88C-F67C49D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B0D-7BD9-4CFD-89E6-91ECCE00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DE7-AFC1-40CE-B504-B8157035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62F-355F-4572-B243-6D73067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688-1C32-456E-8E84-0113AF5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F09-27EF-46D2-A5D4-E8534ED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A68-12F1-4B00-827B-436CAFD5B7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546-D146-4D15-A1BE-D833A7C41A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88612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мволи України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20600" y="4983120"/>
            <a:ext cx="21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лий герб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ерб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sser Coat of Arms of Ukraine.svg"/>
          <p:cNvPicPr/>
          <p:nvPr/>
        </p:nvPicPr>
        <p:blipFill>
          <a:blip r:embed="rId1"/>
          <a:stretch/>
        </p:blipFill>
        <p:spPr>
          <a:xfrm>
            <a:off x="1100160" y="2106720"/>
            <a:ext cx="1905120" cy="2657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3473280" y="2106720"/>
            <a:ext cx="505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 лютого 1992 року затверджено Малий Державний герб України. Центральною геральдичною фігурою герба є Тризуб Володимира І Святого, великого князя київського, володаря Рус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ерб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4572000" y="210672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итуцією також передбачений і Великий Державний герб, одна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цього часу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ийн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http://upload.wikimedia.org/wikipedia/commons/a/a2/Large_coat_of_arms_of_Ukraine_%28color%29.png"/>
          <p:cNvPicPr/>
          <p:nvPr/>
        </p:nvPicPr>
        <p:blipFill>
          <a:blip r:embed="rId1"/>
          <a:stretch/>
        </p:blipFill>
        <p:spPr>
          <a:xfrm>
            <a:off x="861840" y="1700280"/>
            <a:ext cx="3278520" cy="3468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76200" y="514980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Великого герба України авторського колектив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. Івахненка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прапор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12640" y="4292640"/>
            <a:ext cx="83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ори прапора походять від герба Галицько-Волинської держави. У європейській геральдиці синій символізує великодушність, чесність, вірні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 бездоганність. Жовтий (золотий) — знатність, могутність і багатство, силу, вірність, справедлив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std3.ru/a1/b9/1404560719-a1b98089c2edba7392c8eb706b96d0fb.jpg"/>
          <p:cNvPicPr/>
          <p:nvPr/>
        </p:nvPicPr>
        <p:blipFill>
          <a:blip r:embed="rId1"/>
          <a:stretch/>
        </p:blipFill>
        <p:spPr>
          <a:xfrm>
            <a:off x="568440" y="1484280"/>
            <a:ext cx="4147920" cy="2592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6" name="Прямоугольник 1"/>
          <p:cNvSpPr/>
          <p:nvPr/>
        </p:nvSpPr>
        <p:spPr>
          <a:xfrm>
            <a:off x="4859280" y="148428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серпня в Україні щорічно відзначають День Державного пра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прапор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646200" y="49658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снує популярне негеральдичне тлумачення, за яким синій колір символізує небо, а жовтий — пшеничне колос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upload.wikimedia.org/wikipedia/commons/e/ee/Flag_colors.jpg"/>
          <p:cNvPicPr/>
          <p:nvPr/>
        </p:nvPicPr>
        <p:blipFill>
          <a:blip r:embed="rId1"/>
          <a:stretch/>
        </p:blipFill>
        <p:spPr>
          <a:xfrm>
            <a:off x="2411280" y="1773360"/>
            <a:ext cx="4302360" cy="2860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імн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46200" y="49658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ним гімном є перший куплет та приспів пісні «Ще не вмерла України і Слава, і Воля», сло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вла Чубинського, музика Михайла Вербиць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kntu.net.ua/var/ezwebin_site/storage/images/derzhavni-simvoli-ukrayini/derzhavnij-gimn-ukrayini/413863152/208486-1-ukr-UA/413863152_ultralarge.jpg"/>
          <p:cNvPicPr/>
          <p:nvPr/>
        </p:nvPicPr>
        <p:blipFill>
          <a:blip r:embed="rId1"/>
          <a:srcRect l="5975" t="23427" r="6444" b="47687"/>
          <a:stretch/>
        </p:blipFill>
        <p:spPr>
          <a:xfrm>
            <a:off x="1763640" y="1773360"/>
            <a:ext cx="5673960" cy="2655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а мова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93640" y="2871720"/>
            <a:ext cx="3889440" cy="232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www.nastol.com.ua/pic/201109/1024x1024/nastol.com.ua-7856.jpg"/>
          <p:cNvPicPr/>
          <p:nvPr/>
        </p:nvPicPr>
        <p:blipFill>
          <a:blip r:embed="rId2"/>
          <a:stretch/>
        </p:blipFill>
        <p:spPr>
          <a:xfrm>
            <a:off x="4859280" y="2060640"/>
            <a:ext cx="3362400" cy="33624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имвол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www.graycell.ru/picture/big/snop5.jpg"/>
          <p:cNvPicPr/>
          <p:nvPr/>
        </p:nvPicPr>
        <p:blipFill>
          <a:blip r:embed="rId1"/>
          <a:srcRect l="12047" t="0" r="19167" b="0"/>
          <a:stretch/>
        </p:blipFill>
        <p:spPr>
          <a:xfrm rot="469800">
            <a:off x="6227280" y="267840"/>
            <a:ext cx="304956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komuz.com.ua/upload/shop_1/2/8/5/item_285/shop_items_catalog_image285.png"/>
          <p:cNvPicPr/>
          <p:nvPr/>
        </p:nvPicPr>
        <p:blipFill>
          <a:blip r:embed="rId2"/>
          <a:srcRect l="2478" t="3219" r="2940" b="3438"/>
          <a:stretch/>
        </p:blipFill>
        <p:spPr>
          <a:xfrm>
            <a:off x="3825720" y="3063960"/>
            <a:ext cx="4849920" cy="353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rushnik-svadba-spb.narod.ru/5/rushnik.gif"/>
          <p:cNvPicPr/>
          <p:nvPr/>
        </p:nvPicPr>
        <p:blipFill>
          <a:blip r:embed="rId3"/>
          <a:stretch/>
        </p:blipFill>
        <p:spPr>
          <a:xfrm>
            <a:off x="25560" y="1251000"/>
            <a:ext cx="3811320" cy="402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ub-pinta.ru/components/pinta_menu/uploads/images/1352463498_2UHzWQDZ.png"/>
          <p:cNvPicPr/>
          <p:nvPr/>
        </p:nvPicPr>
        <p:blipFill>
          <a:blip r:embed="rId4"/>
          <a:srcRect l="0" t="18662" r="0" b="22826"/>
          <a:stretch/>
        </p:blipFill>
        <p:spPr>
          <a:xfrm>
            <a:off x="365040" y="3819600"/>
            <a:ext cx="5191200" cy="303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ttp://motanka.in.ua/img-upload/motanka-divchina.png"/>
          <p:cNvPicPr/>
          <p:nvPr/>
        </p:nvPicPr>
        <p:blipFill>
          <a:blip r:embed="rId5"/>
          <a:stretch/>
        </p:blipFill>
        <p:spPr>
          <a:xfrm>
            <a:off x="4572000" y="1508040"/>
            <a:ext cx="2021040" cy="23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имвол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sadoc.at.ua/Abricosi/1254570331_urojai_kaliny_sadovoi.jpg"/>
          <p:cNvPicPr/>
          <p:nvPr/>
        </p:nvPicPr>
        <p:blipFill>
          <a:blip r:embed="rId1"/>
          <a:stretch/>
        </p:blipFill>
        <p:spPr>
          <a:xfrm>
            <a:off x="900000" y="1382760"/>
            <a:ext cx="3603600" cy="2403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4" name="Picture 6" descr="http://agronomist.in.ua/wp-content/uploads/2013/06/chornobr.jpg"/>
          <p:cNvPicPr/>
          <p:nvPr/>
        </p:nvPicPr>
        <p:blipFill>
          <a:blip r:embed="rId2"/>
          <a:stretch/>
        </p:blipFill>
        <p:spPr>
          <a:xfrm>
            <a:off x="4645080" y="1382760"/>
            <a:ext cx="3456000" cy="2403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5" name="Picture 8" descr="http://www.arminerussia.ru/uploads/posts/2009-06/1245627997_spring_dreaming.jpg"/>
          <p:cNvPicPr/>
          <p:nvPr/>
        </p:nvPicPr>
        <p:blipFill>
          <a:blip r:embed="rId3"/>
          <a:srcRect l="0" t="0" r="0" b="7096"/>
          <a:stretch/>
        </p:blipFill>
        <p:spPr>
          <a:xfrm>
            <a:off x="4643280" y="3933720"/>
            <a:ext cx="3456000" cy="2409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6" name="Picture 4" descr="http://stphotoshop.ru/_nw/0/50768860.png"/>
          <p:cNvPicPr/>
          <p:nvPr/>
        </p:nvPicPr>
        <p:blipFill>
          <a:blip r:embed="rId4"/>
          <a:stretch/>
        </p:blipFill>
        <p:spPr>
          <a:xfrm>
            <a:off x="969840" y="249084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3:51Z</dcterms:modified>
  <cp:revision>64</cp:revision>
  <dc:subject/>
  <dc:title>Презентация PowerPoint</dc:title>
</cp:coreProperties>
</file>